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F18-8314-4467-8AAC-4B7EA9E0FF8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6B83-F80A-4AA0-8C91-143DAB0C0A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0F79-0EED-4EF8-95E4-CD64D14A30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5686-F600-40D9-8263-FBB846E999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7E8-02DB-4EB7-8F53-E8177561D6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4C9E-67F5-4AB3-BA35-24C02044D7F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E8F2-8458-40C2-912A-95B213954E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CC08-0C97-4170-BC1B-1E28FB8E73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070-5B8E-4CAE-8498-F90F38875C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C477-A8FF-4DC6-9F96-750EB111CE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42F-8AFC-4D16-9226-32C638CA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DC8-40D6-4935-B02C-4B17959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CD5-EFE0-436B-8AE0-2E7FAB9A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87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1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372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87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1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5B7-86E8-4A43-8E73-D12AF648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B1B-7090-41E7-A040-9CF76FB7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5F4-34C6-4043-885F-36EAAD4E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B56-2A3D-4199-9631-81FF910C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116-350F-4CD4-BA2A-ED9F06F5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5000" y="142920"/>
            <a:ext cx="78170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305-A44E-4FC1-82FD-198F9C9B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DAF-40A6-46CC-912F-5404CBC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4BE-9265-45A7-95FF-555A533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B6C-90B9-4090-A78C-E876C52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C0C-B3FA-4F8C-A3C7-9AD8B7A5230A}" type="slidenum">
              <a:rPr b="0" lang="pl-PL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3" descr=""/>
          <p:cNvPicPr/>
          <p:nvPr/>
        </p:nvPicPr>
        <p:blipFill>
          <a:blip r:embed="rId1"/>
          <a:stretch/>
        </p:blipFill>
        <p:spPr>
          <a:xfrm>
            <a:off x="476280" y="1700280"/>
            <a:ext cx="9167760" cy="3243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96880" y="5661000"/>
            <a:ext cx="69343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mbria"/>
              </a:rPr>
              <a:t>Gorzów Wielkopolski 30 marca 2021 r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34136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ym z podstawowych narzędzi wychowawczych, jakimi dysponuje szkoła, jest lekcja wychowawcza.  Z wyników diagnozy wynika, że uczniowie odczuwają potrzebę takich lekcji. Jest to potrzeba czasu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dziny wychowawcze mają ogromne znaczenie zarówno w planie nauki zdalnej, jak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acjonarnej. Dlatego należy uświadomienie nauczycielom ich bardzo ważnej roli oraz wpływu na funkcjonowanie uczniów. To wychowawca jako pierwsza osoba może zauważyć i rozpoznać niepokojące zachowanie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czyciele i wychowawcy często nie doceniają swojego wychowawczego i życiowego wpływu na uczniów, lekcje wychowawcze czy rozmowy z uczniami lub rodzicami mogą prowadzić do szybkiego diagnozowania problemów (np. niepokojące zachowania, przedłużająca się nieobecność, brak kontaktu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ie i rozmowy może znacząco ograniczyć liczbę uczniów, którzy będą faktycznie potrzebowali pomocy specjalistycznej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nieje wiele argumentów przemawiających, szczególnie w obecnym czasie, za ogromnym znaczeniem  godzin wychowawczych w planie nauki zdalnej: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owią obecnie podstawowy kanał komunikacji między wychowawcą i jego klasą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walają na monitorowanie grupowych i indywidualnych nastrojów i oceny powszechności zgłaszanych problemów przez uczniów,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 miejscem rozwoju bardziej swobodnych interakcji między uczniami oraz między uczniami a nauczycielem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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warzają możliwość wykorzystania czasu na oddziaływania profilaktyczne prowadzone przez: -  wychowawców -  specjalistów szkolnych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380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obre praktyki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ływ organizacji wymiany dobrych praktyk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ja dobrych praktyk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zasie nauczania zdalnego, nauczania hybrydowego i spodziewanego powrotu do nauczania stacjonarnego bardzo potrzebne jest zbieranie dobrych praktyk dotyczących konkretnych działań i sposobów wsparcia wychowawczego, profilaktyczn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mocowego oraz zorganizowanie ich wymian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ja wymiany dobrych praktyk pokazuje nauczycielom ich własny potencjał, umacnia wiarę we własne możliwości i zachęca do działania. Wychowawczych, integracyjnych lub nakierowanych na wsparcie psychiczne uczniów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elenie się dobrymi praktykami  można  organizować na poziomie szkolnym regionalnym i lokalnym, co sprawia, że dostęp do autora danego rozwiązania jest łatwiejsz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55736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rganizacja wsparcia psychologicznego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yfikacja zachowań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ałania skierowane do rodziców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chowawcy i nauczyciele przedmiotowi często pierwsi dostrzegają problemy uczniów. Mogą oni i powinni udzielać wsparcia za pomocą dostępnych im środków np. rozmowa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a identyfikacja uczniów, których zachowanie może wskazywać na istnienie głębszych problemów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ak najszybsze objęcie pomocą psychologiczną dzieci i młodzieży, która ma bardzo słabą kondycję psychiczną, a w szczególności tych uczniów, którzy w okresie pandemii doświadczyli jakiejś formy traumy. Wskazana jest współpraca pedagoga, psycholog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specjalistów PPP, którzy wspierają szkoł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ice doświadczają różnorodne trudności, nauczanie zdalne stawia przed nimi duże wymagania organizacyjne, pomocy w nauce i poradzenia sob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emocjami dziecka i swoimi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zerzanie wiedzy i kompetencji zainteresowanych rodziców w zakresie dobrej komunikacji, umiejętności wychowawczych poprzez warsztaty lub spotkania prowadzone przez specjalistów (np. warsztaty „Szkoła dla rodziców i wychowawców”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wrażliwianie rodziców na niepokojące objawy, które mogą świadczyć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oważniejszych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dnościach psychicznych dzieci oraz przekazanie wiedzy o sposobach właściwego reagowania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 oparciu o zaangażowanie psychologów i pedagogów szkolnych, specjalistów z PPP, a takż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zez wskazanie odpowiednich portali internetowych i publikacji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kazywanie rodzicom wiedzy dotyczącej nadużywania Internetu przez dzieci i młodzież, w tym także sięgania p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eści szkodliwe dla ich rozwoju. Informowanie o sposobach rodzicielskiego monitorowania korzysta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Internetu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630360"/>
                <a:tab algn="l" pos="8985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5680"/>
                <a:tab algn="l" pos="4944960"/>
                <a:tab algn="l" pos="5394240"/>
                <a:tab algn="l" pos="5843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daptacja uczniów po powrocie do szkoły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y profilaktyczn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ostosowanie wymagań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związanych z realizacją podstawy programowej </a:t>
            </a:r>
            <a:br>
              <a:rPr sz="3600"/>
            </a:b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o zmniejszonej efektywności kształcenia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równywanie szans edukacyjnych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arcie uczniów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zbędna jest realizacja programów profilaktycznych, które pomogą w powrocie dzieci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łodzież do nauczania stacjonarnego oraz odreagowania stresów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k działań profilaktycznych spowoduje wzrost zachowań ryzykownych i problemów takich jak używanie środków psychoaktywnych, przemoc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związku z powyższym niezbędne jest podejmowanie działań skierowanych do dzie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łodzieży, które będą wsparciem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ja celów profilaktycznych i udzielanie wsparcia psychicznego może odbywać się również w formie onlin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ZIĘKUJĘ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wynika z przeprowadzonych diagnoz Instytutu Profilaktyki Zintegrowanej oraz Kuratorium Oświaty w Gorzowie Wielkopolskim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obecnej sytuacji konieczne jest dostosowanie wymagań związa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realizacją podstawy programowej. Związane to jest ze zmniejszoną efektywnością, osłabioną kondycją uczniów oraz niższej efektywności nauczania zdalnego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ka o kondycję psychiczną dzieci i młodzieży powinna mieć pierwszeństwo przed troską o pełną realizację podstawy programowej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3720" y="1428840"/>
            <a:ext cx="95979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niejszenie wymagań jest warunkiem wyrównywania szans edukacyjnych pomiędzy uczniami, jedni znoszą odizolowanie w miarę dobrze, są bardziej odporni otrzymują wsparcie w rodzinie, dla innych jest to sytuacja stresująca i nie otrzymują wsparcia u najbliższych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ócenie lekcji do 30 minut w formie obecnie zalecanej (i nie zawsze realizowanej, na co zwracają uwagę badani rodzice) nie są wystarczające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 ograniczenia wymagań, w sposób uwzględniający obecną sytuację, ilość pracy ucznia nie zmniejszy się, a jedynie przeniesie się na zadania domowe i pracę własną ucznia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raniczenie wymagań powinno być uzależnione od wieku uczniów i egzaminów.  Często rodzice wspomagają dzieci w wykonywaniu zadań, należy pamiętać, że rodzic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auczyciele, którzy również mają osłabioną kondycję psychiczną będą mogli poświęcić więcej czasu na zadania wychowawcze i wsparcie psychiczne uczniów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organizowaniu edukacji zdalnej należy odrzucić założenie o konieczności realizacji całej podstawy programowej dla konkretnego etapu kształcenia. Przed przystąpieniem do pracy potrzebne jest właściwe dobranie treści i ustalenie nowych celów oraz priorytetów w zakresie programu nauczania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żne, aby wymagania stawiane przed uczniami w tych nowych warunkach, były realne do spełnienia i dopasowane do ich możliwości. Niezbędna jest wnikliwa analiza treści kształcenia przez nauczyciel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aliza obciążeń nauczycieli, wychowawców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 pedagogów związanych z dokumentacją </a:t>
            </a:r>
            <a:br>
              <a:rPr sz="3600"/>
            </a:b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 sprawozdawczością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3720" y="1428840"/>
            <a:ext cx="95979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czyciele często skarżą się, że dużo czasu poświęcają wypełnianiu wymaganej dokumentacj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ieczność istnienia wielu dokumentów wynika z innych potrzeb, takich jak kontrol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adzoru czy też potrzeba obronienia w przypadku  skarg itp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ozumiałe jest, że nie można całkowicie zrezygnować ze sprawozdawcz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kumentowania przeprowadzonych działań nauczyciel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tego konieczne jest przeprowadzenie analizy sytuacji pod kątem możliwości racjonalnego ograniczenia zadań związanych z dokumentacją realizowanych przez nauczycieli (np. monitorowanie szkolnych procedur, tygodniowe sprawozdanie z realizacji zadań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aktualnej sytuacji działania nauczycieli skierowane powinny być na wsparcie psychiczne uczniów i relacje. Nauczyciele też doświadczają, różnorodnych stanów emocjonal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trzebują wsparcia. Sama próba zmniejszenia zadań w zakresie prowadzenia dokumentacji może pozytywnie wpłyną na postawy nauczycieli.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28520" y="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raniczenie wymiaru czasu potrzebnego na realizację zadań związanych z dokumentacją jest szczególnie potrzebne w związku z wyzwaniami wychowawczymi i profilaktycznymi czasu epidemi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śli analiza wykaże możliwość redukcji niektórych wymagań formalnych, należy to uwzględnić i zmienić odpowiednie wymagania czy procedur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53720" y="141264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zmocnienie i wykorzystanie potencjału wychowawców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cje wychowawcz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17375e"/>
                </a:solidFill>
                <a:latin typeface="Cambria"/>
              </a:rPr>
              <a:t>Wsparcie uczniów i nauczycieli w dobie edukacji zdalnej – rola i zadania dyrektora szkoły</a:t>
            </a:r>
            <a:endParaRPr b="1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51:31Z</dcterms:created>
  <dc:creator>User</dc:creator>
  <dc:description/>
  <dc:language>en-US</dc:language>
  <cp:lastModifiedBy>Jolanta Lipińska</cp:lastModifiedBy>
  <dcterms:modified xsi:type="dcterms:W3CDTF">2021-03-31T06:28:09Z</dcterms:modified>
  <cp:revision>703</cp:revision>
  <dc:subject/>
  <dc:title>Slajd 1</dc:title>
</cp:coreProperties>
</file>