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92BE-5D00-465D-881B-A1280E34FE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FB8-2545-4F73-8CEC-8F61E33CF0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0EC2-2FF2-4525-ABAF-FA41A7C0F9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D742-1C92-4A48-8EBB-DD30C7224B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A78-94E1-4636-B26E-9BF639BB3E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5505-DB34-4637-8156-9F35DF8820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FF4-823D-4388-A71F-1E52447FAE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B00E-BC25-4A87-813C-25D5A87229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122640" y="509760"/>
            <a:ext cx="3681360" cy="2549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3216-12E9-4AF1-9BC4-8BDABD7D904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DD3-7A1D-4A22-8E8A-EC32C709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3F2-5D14-441A-B845-4CA0C7D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A5A-A896-4E30-9DC7-CE4FA49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87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4160" y="14288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372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87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4160" y="3668040"/>
            <a:ext cx="309024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00F-4C0A-471E-B347-461A1B12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040-118E-4621-A4E2-B1ABDBF6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7BB-F61A-4C58-8E88-B181F757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BBD-1F42-4EA1-AE5B-15DDEA5E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C2B-D0EE-4059-8CD5-8515CAF9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5000" y="142920"/>
            <a:ext cx="781704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C5A-B112-4757-BB1D-382332C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237-8C35-486A-8BEB-B936DF5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2040" y="36680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667-D073-4C26-B054-5F50D14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372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2040" y="1428840"/>
            <a:ext cx="4683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3720" y="3668040"/>
            <a:ext cx="95979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1FE-C67D-4925-9381-823979D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09D-6ADF-4D3D-8D7E-9D1358FF4112}" type="slidenum">
              <a:rPr b="0" lang="pl-PL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8880" y="1628640"/>
            <a:ext cx="828036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WYNIKI MONITOROWAN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sposobu organizacji realizacji zadań szkół województwa lubuskiego w okresie czasowego ograniczenia funkcjonowania jednostek systemu oświaty w związku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z zapobieganiem, przeciwdziałaniem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Cambria"/>
              </a:rPr>
              <a:t>i zwalczaniem COVID-19</a:t>
            </a: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5732640"/>
            <a:ext cx="6933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040"/>
                </a:solidFill>
                <a:latin typeface="Cambria"/>
              </a:rPr>
              <a:t>Gorzów Wielkopolski, 25 lutego 2021 r.</a:t>
            </a:r>
            <a:r>
              <a:rPr b="0" i="1" lang="pl-PL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" name="Symbol zastępczy zawartości 3" descr="Znalezione obrazy dla zapytania Grafika - nauczyciel z lupÄ"/>
          <p:cNvPicPr/>
          <p:nvPr/>
        </p:nvPicPr>
        <p:blipFill>
          <a:blip r:embed="rId1"/>
          <a:stretch/>
        </p:blipFill>
        <p:spPr>
          <a:xfrm>
            <a:off x="6176880" y="4797360"/>
            <a:ext cx="2583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8. Dyrektor ustalił, we współpracy z nauczycielami, sposób potwierdzania uczestnictwa uczniów na zajęciach oraz sposób i termin usprawiedliwiania nieobecności uczniów na zajęciach edukacyjny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8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9. Dyrektor zapewnia każdemu uczniowi lub rodzicom możliwość konsultacj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em prowadzącym zajęcia oraz przekazuje im informację o form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terminach tych konsultacji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§ 1 ust. 1 pkt 9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0. Dyrektor ustalił, we współpracy z nauczycielami, sposób monitorowania postępów uczniów oraz sposób weryfikacji wiedzy i umiejętności uczniów, w tym również informowania uczniów lub rodziców o postępach ucznia w nauce, a także uzyskanych przez niego ocenach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10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1.  Dyrektor przekazał uczniom, rodzicom i nauczycielom informacj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 sposobie i trybie realizacji zadań jednostki, w szczególności w zakresie organizacji kształcenia specjalnego, pomocy psychologiczno-pedagogicznej, indywidualnego nauczania, zajęć rewalidacyjno-wychowawczych lub zajęć, o których mowa w art. 165 ust. 7 i 10 ustawy z dnia 14 grudnia 2016 r. – Prawo oświatowe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15, nie – 2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2. Dyrektor koordynuje współpracę nauczycieli z uczniami lub rodzicami uwzględniając potrzeby edukacyjne i możliwości psychofizyczne uczniów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1 pkt 14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3. Dyrektor po zasięgnięciu opinii rady pedagogicznej czasowo zmodyfikował tygodniowy rozkład zajęć (semestralny rozkład zajęć) prowadzonych z wykorzystaniem metod i technik kształcenia na odległość lub innego sposobu realizacji tych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 pkt 15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- 168, nie – 37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7" name="Obraz 3" descr=""/>
          <p:cNvPicPr/>
          <p:nvPr/>
        </p:nvPicPr>
        <p:blipFill>
          <a:blip r:embed="rId1"/>
          <a:stretch/>
        </p:blipFill>
        <p:spPr>
          <a:xfrm>
            <a:off x="2360520" y="3213000"/>
            <a:ext cx="54054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4. Czy o modyfikacji tygodniowego rozkładu zajęć lub odpowiednio semestralnego rozkładu zajęć, jeśli miała miejsce w okresie od 24 października br., dyrektor poinformował niezwłocznie organ sprawujący nadzór pedagogiczny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1a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130, nie dotyczy – 41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Obraz 4" descr=""/>
          <p:cNvPicPr/>
          <p:nvPr/>
        </p:nvPicPr>
        <p:blipFill>
          <a:blip r:embed="rId1"/>
          <a:stretch/>
        </p:blipFill>
        <p:spPr>
          <a:xfrm>
            <a:off x="2289240" y="2997360"/>
            <a:ext cx="5435640" cy="31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5. Czy w szkole zachodzą uzasadnione przypadki  prowadzenia zajęć przez nauczyciela z wykorzystaniem metod i technik kształcenia w czasie innym niż 45 minut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a 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69, nie – 27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3" name="Obraz 3" descr=""/>
          <p:cNvPicPr/>
          <p:nvPr/>
        </p:nvPicPr>
        <p:blipFill>
          <a:blip r:embed="rId1"/>
          <a:stretch/>
        </p:blipFill>
        <p:spPr>
          <a:xfrm>
            <a:off x="2216160" y="2708280"/>
            <a:ext cx="560700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6. Czy w szkole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 3f  ww. rozp. nr 2)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280, nie – 263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6" name="Obraz 4" descr=""/>
          <p:cNvPicPr/>
          <p:nvPr/>
        </p:nvPicPr>
        <p:blipFill>
          <a:blip r:embed="rId1"/>
          <a:stretch/>
        </p:blipFill>
        <p:spPr>
          <a:xfrm>
            <a:off x="2576520" y="3500280"/>
            <a:ext cx="5135400" cy="30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5000" y="7920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7. Czy w klasie IV technikum lub programowo najwyższym semestrze szkoły policealnej, w odniesieniu do uczniów, którzy przystępują odpowiednio do egzaminu potwierdzającego kwalifikacje w zawodzie lub egzaminu zawodowego w sesji styczeń – luty 2021 dyrektor zorganizował lub planuje zorganizowanie zajęć praktycznych  w miejscu ich prowadzenia (w wymiarze nie przekraczającym 10 godzin tygodniowo)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3h):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67, nie – 1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Obraz 3" descr=""/>
          <p:cNvPicPr/>
          <p:nvPr/>
        </p:nvPicPr>
        <p:blipFill>
          <a:blip r:embed="rId1"/>
          <a:stretch/>
        </p:blipFill>
        <p:spPr>
          <a:xfrm>
            <a:off x="2792520" y="3835440"/>
            <a:ext cx="489420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18. Czy w pierwszym półroczu w okresie ograniczonego funkcjonowania szkół planuje się organizowanie konsultacji indywidualnych lub grupowych dla uczniów VIII  klasy,  III LO lub klasy IV technikum, którzy przystępują w br. szkolnym  odpowiednio do egzaminu ósmoklasisty lub egzaminu maturalnego </a:t>
            </a:r>
            <a:r>
              <a:rPr b="0" lang="pl-PL" sz="2200" spc="-1" strike="noStrike">
                <a:solidFill>
                  <a:srgbClr val="00b050"/>
                </a:solidFill>
                <a:latin typeface="Cambria"/>
              </a:rPr>
              <a:t>(§ 2 ust.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89, nie – 57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2" name="Obraz 4" descr=""/>
          <p:cNvPicPr/>
          <p:nvPr/>
        </p:nvPicPr>
        <p:blipFill>
          <a:blip r:embed="rId1"/>
          <a:stretch/>
        </p:blipFill>
        <p:spPr>
          <a:xfrm>
            <a:off x="2432160" y="3284640"/>
            <a:ext cx="5716440" cy="30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19. Zdalne zajęcia edukacyjne odbywają się z wykorzystaniem jednej platformy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285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Najczęściej wykorzystywaną platformą jest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Microsoft Teams, Google Classroo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0. Zdalne zajęcia edukacyjne odbywają się z wykorzystaniem dwóch platform 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19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1. Zdalne zajęcia edukacyjne odbywają się z wykorzystaniem trzech lub więcej platform –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65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 22. Zdalne zajęcia edukacyjne odbywają się bez wykorzystania platform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– 3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Symbol zastępczy zawartości 4" descr=""/>
          <p:cNvPicPr/>
          <p:nvPr/>
        </p:nvPicPr>
        <p:blipFill>
          <a:blip r:embed="rId1"/>
          <a:stretch/>
        </p:blipFill>
        <p:spPr>
          <a:xfrm>
            <a:off x="1065240" y="1844640"/>
            <a:ext cx="81151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78166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podstawa prawn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Monitorowanie przeprowadzono na podstawie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okresie czasowego ograniczenia funkcjonowania jednostek systemu oświaty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związku z zapobieganiem, przeciwdziałaniem i zwalczaniem COVID-19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Dz.U.2020 r. poz. 493, z późn. zm.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Rozporządzenia MEN z dnia 12 sierpni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czasowego ograniczenia funkcjonowania jednostek systemu oświaty w związku z zapobieganiem, przeciwdziałaniem i zwalczaniem COVID-19 </a:t>
            </a:r>
            <a:r>
              <a:rPr b="0" lang="pl-PL" sz="2000" spc="-1" strike="noStrike">
                <a:solidFill>
                  <a:srgbClr val="7030a0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00b050"/>
                </a:solidFill>
                <a:latin typeface="Cambria"/>
              </a:rPr>
              <a:t>Dz. U. 2020 r. poz. 1389 z późn. zm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) Wytycznych Ministra Edukacji Narodowej dotyczących nadzoru pedagogicznego sprawowanego w okresie czasowego ograniczenia funkcjonowania jednostek systemu oświaty w związku z zapobieganiem, przeciwdziałaniem i zwalczaniem COVID-19 (DKO-WNP.4092.33.2020.EL  - pkt  IV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7800" y="142920"/>
            <a:ext cx="8543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go</a:t>
            </a:r>
            <a:endParaRPr b="1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3. Dyrektor zmodyfikował zadania realizowane w ramach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ewnętrznego nadzoru pedagogicz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 tym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monitoruje realizację przez nauczycieli dziennego planu zaję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541, nie – 2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monitoruje realizację podstawy programowej w odniesieniu do poszczególnych przedmiotów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prowadzi obserwację zajęć realizowanych z wykorzystaniem metod i technik kształcenia na odległość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33, nie – 1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kontroluje przestrzeganie przez nauczycieli ustalonych w nauczaniu zdalnym zasad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tym dotyczących oceniania wewnątrzszkolnego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nadzoruje stopień obciążenia uczniów realizacją zleconych zadań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6 ust.1):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f) wspomaga i motywuje nauczycieli w obszarze wewnętrznego i zewnętrznego doskonalenia zawodowego nauczycieli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0, nie – 3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0520" y="333360"/>
            <a:ext cx="9648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200" spc="-1" strike="noStrike">
                <a:solidFill>
                  <a:srgbClr val="376092"/>
                </a:solidFill>
                <a:latin typeface="Cambria"/>
              </a:rPr>
              <a:t>(2) </a:t>
            </a:r>
            <a:r>
              <a:rPr b="1" lang="pl-PL" sz="2200" spc="-1" strike="noStrike">
                <a:solidFill>
                  <a:srgbClr val="ff0000"/>
                </a:solidFill>
                <a:latin typeface="Cambria"/>
              </a:rPr>
              <a:t>zadania w obszarze wewnętrznego nadzoru pedagogiczne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9800" y="141300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4. Dyrektor pozyskuje informacje od rodziców i uczniów o prawidłowości funkcjonowania w szkole organizacji kształcenia zdaln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3, nie – 0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25. Wnioski z działań prowadzonych w ramach nadzoru pedagogicznego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raz uzyskanych informacji (od rodziców, uczniów i nauczycieli), dotyczących organizacji i przebiegu zajęć z wykorzystaniem metod i technik kształcenia na odległość, dyrektor wykorzystuje do doskonalenia prowadzonego zdalnie procesu edukacyjno-wychowawczego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42,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nie – 1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1120" y="1413000"/>
            <a:ext cx="95983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zystkie zadania w obszarze organizacji i przebiegu procesu edukacyjnego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wnikające z przepisów prawa oświatowego wprowadzonego ze względu na czasowe ograniczenie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które należało wykonać zostały przez dyrektorów szkół województwa lubuskiego wykonane zgodnie z przepisami prawa w 100% lub 99%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ruszenie zapisów rozporządzenia MEN z dnia 20 marca 2020 r. </a:t>
            </a:r>
            <a:r>
              <a:rPr b="0" i="1" lang="pl-PL" sz="2000" spc="-1" strike="noStrike">
                <a:solidFill>
                  <a:srgbClr val="000000"/>
                </a:solidFill>
                <a:latin typeface="Cambria"/>
              </a:rPr>
              <a:t>w sprawie szczegółowych rozwiązań w okresie czasowego ograniczenia funkcjonowania jednostek systemu oświaty w związku z zapobieganiem, przeciwdziałaniem i zwalczaniem COVID-19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(Dz.U.2020 r. poz. 493, z późn. zm.) w kilku punktach dotyczyło 1-2 szkół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natomiast w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przypadku 14 szkół dotyczyło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on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raku ustalenia tygodniowego zakresu treści nauczania z zajęć wynikaj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ramowych planów nauczania dla poszczególnych typów szkół do zrealiz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poszczególnych oddziałach klas (semestrów) oraz tygodniowego zakresu treści nauczania z zajęć realizowanych w formach pozaszkolnych, uwzględniających bezpieczeństwo i higienę pracy oraz ograniczenia wynikające ze specyfiki zajęć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7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47840" indent="-447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3720" y="1428480"/>
            <a:ext cx="95979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2. Większość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skorzystała z przepisów prawa i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 zgodnie z potrzebami szkoły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a) zmodyfikowano szkolny zestaw programów nauczania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11 szkołach (57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) zmodyfikowano program wychowawczo-profilaktyczny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359 szkołach (66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c) uznano, że istnieją uzasadnione przesłanki do prowadzenia zajęć edukacyj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czasie  innym niż 45 minut  -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69 szkołach (ok. 50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) zaistniała konieczność zorganizowania uczniowi zajęć w szkole z uwagi na rodzaj jego niepełnosprawności lub umożliwienie na terenie szkoły korzystania z zajęć prowadzonych z wykorzystaniem metod i technik kształcenia na odległość, dla ucznia, który nie ma możliwości realizowania tych zajęć w domu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w 280 szkołach (ok. 48 %)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e) już w pierwszym półroczu br. szkolnego dyrektorzy skorzystali z możliwości zorganizowania  konsultacji indywidualnych lub grupowych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dla uczniów VIII  klasy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, III LO lub klasy IV technikum, którzy przystępują w br. szkolnym  odpowiednio do egzaminu ósmoklasisty lub egzaminu maturalnego -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389 szkoły, nie skorzystali dyrektorzy 57 szkół (13 %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organizacja i przebieg procesu edukacyjno-wychowawcz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dyrektorzy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użej  liczby szkół (168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skazali, że po zasięgnięciu opinii rady pedagogicznej czasowo zmodyfikowali tygodniowy rozkład zajęć (semestralny rozkład zajęć) prowadzonych z wykorzystaniem metod i technik kształcenia na odległość lub innego sposobu realizacji tych zajęć,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dyrektorzy 130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informowali o tym organ sprawujący nadzór pedagogiczny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 rozmowach z wizytatorami ustalono, że dyrektorzy pomylili tygodniowe rozkłady zajęć  z planem lekcji, w którym dokonano zmian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g) zdalne zajęcia edukacyjne prowadzone są głównie z wykorzystaniem jednej platformy (ok. 52 % szkół), w mniejszym stopniu - z wykorzystaniem 2 platform (35 % szkół) oraz trzech lub więcej (12 % szkół). Najczęściej wykorzystywaną platformą jest Microsoft Teams, Google Classroom, 3 szkoły nie korzystają z żadnej platform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 ramach wewnętrznego nadzoru pedagogicznego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1.  Dyrektorzy wszystkich szkół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0 % dyrektorów)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kontroluje przestrzeganie przez nauczycieli ustalonych w nauczaniu zdalnym zasad, w tym dotyczących oceniania wewnątrzszkolnego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pozyskuje informacje od rodziców i uczniów o prawidłowości funkcjonowania w szkole organizacji kształcenia zdalnego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Dyrektorzy w zdecydowanej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większości szkół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a) monitorują realizację przez nauczycieli dziennego planu zaję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zy 2 szkół nie prowadzą takich działań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b) monitorują realizację podstawy programowej w odniesieniu do poszczególnych przedmiotów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dyrektor 1 szkoły nie monit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c) prowadzą obserwację zajęć realizowanych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10 dyrektorów nie prowadzi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Podsumowanie – wewnętrzny nadzór pedagogiczny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d) wspomagają i motywują nauczycieli w obszarze wewnętrz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zewnętrznego doskonalenia zawodowego nauczycieli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realizuje takiej formy nadzoru pedagogicznego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e) nadzorują stopień obciążenia uczniów realizacją zleconych zadań </a:t>
            </a:r>
            <a:br>
              <a:rPr sz="2200"/>
            </a:b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3 dyrektorów nie nadzoruje)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f)  wykorzystują do doskonalenia prowadzonego zdalnie procesu edukacyjno-wychowawczego wnioski z działań prowadzonych w ramach nadzoru pedagogicznego oraz uzyskane informacje (od rodziców, uczni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nauczycieli), dotyczące organizacji i przebiegu zajęć z wykorzystaniem metod i technik kształcenia na odległość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(oprócz 1 szkoły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6160" y="115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Dyrektorzy zdecydowanej większości szkół województwa lubuskiego w okresie czasowego ograniczenia funkcjonowania jednostek systemu oświaty w związk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zapobieganiem, przeciwdziałaniem i zwalczaniem COVID-19, wykonują zadania określone w § 6 ust. 1 rozporządzenia MEN z dnia 20 marca 2020 r. w sprawie szczegółowych rozwiązań w okresie czasowego ograniczenia funkcjonowania jednostek systemu oświaty w związku z zapobieganiem, przeciwdziałanie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i zwalczaniem COVID-19 (Dz.U.2020 r. poz. 493, z późn. zm.),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co świadczy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o właściwej organizacji pracy szkół w tym okresi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. W sytuacji przedłużającego się okresu czasowego ograniczenia pracy szkół wszyscy dyrektorzy zarówno szkół publicznych, jak i niepublicznych winni dostosować się do przepisów obowiązującego prawa, mając na względzie potrzeby uczniów oraz nauczycieli w tej wyjątkowej epidemicznej sytuacji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. Brak wskazania dotyczącego modyfikacji szkolnego programu wychowawczo – profilaktycznego przez  dużą liczbę szkół (44 % )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sytuacji, gdy uczniowie przez długi okres czasu przebywają poza szkołą i uczestniczą w całkowicie odmiennym procesie edukacyjnym, świadczy o zminimalizowaniu procesu wychowawczego </a:t>
            </a:r>
            <a:br>
              <a:rPr sz="2000"/>
            </a:b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w tych szkołach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75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nioski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myłkowe wskazania w arkuszu monitorowania, dotyczące pyt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o zmiany w tygodniowym rozkładzie zajęć (termin, o którym mowa w  § 4 ust. 1 rozporządzenia MEN z dnia 3 kwietnia 2019 r. </a:t>
            </a:r>
            <a:r>
              <a:rPr b="0" i="1" lang="pl-PL" sz="2200" spc="-1" strike="noStrike">
                <a:solidFill>
                  <a:srgbClr val="000000"/>
                </a:solidFill>
                <a:latin typeface="Cambria"/>
              </a:rPr>
              <a:t>w sprawie ramowych planów nauczania dla publicznych szkół 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(Dz. U. z 2019.  poz. 639 z późn. zm)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świadczą o niewłaściwej interpretacji podstawowych terminów związanych z organizacją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Zdecydowana większość dyrektorów realizuje różne formy wewnętrznego nadzoru pedagogicznego, w tym stosuje obserwację zajęć edukacyjnych prowadzonych przez nauczycieli z wykorzystaniem metod i technik kształcenia na odległość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co przy właściwym wykorzystaniu wniosków </a:t>
            </a:r>
            <a:br>
              <a:rPr sz="2200"/>
            </a:b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z prowadzonego nadzoru powinno przyczynić się do doskonalenia jakości pracy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6. Skuteczność wspomagania jako formy zewnętrznego nadzoru pedagogicznego, realizowanego przy pomocy takich narzędzi jak ankiety (arkusze) monitorowania,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uzależniona jest od osobistego zaangażowania dyrektorów jednoste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9240" y="4428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Wskazane jest organizowanie przez placówki doskonalenia zawodowego nauczycieli form doskonalenia skierowanych do dyrektorów szkół, między innymi w zakresie: rozwijania umiejętności czytania i interpretowania przepisów prawa oświatowego; realizowania poszczególnych form wewnętrznego nadzoru pedagogicznego, w tym wspomagania; wykorzystania wniosków z nadzoru pedagogicznego, w tym z obserwacji zajęć do doskonalenia organizacji i realizacji procesu edukacyjno-wychowawczego w szko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2. W szkołach i placówkach doskonalenia zawodowego nauczycieli należy nieustannie wspomagać nauczycieli w rozwijaniu umiejętności stosowania adekwatnych do wieku i potrzeb uczniów metod i form kształcenia na odległość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3. Szkoły, które nie modyfikowały szkolnych programów wychowawczo-profilaktycznych powinny podjąć odpowiednie działania, poprzedzone diagnozą potrzeb i sytuacji każdego ucznia oraz grup uczniów szkoł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92200" y="-360"/>
            <a:ext cx="10344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– cel działani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3720" y="1428480"/>
            <a:ext cx="9597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Monitorowanie </a:t>
            </a:r>
            <a:r>
              <a:rPr b="0" lang="pl-PL" sz="2000" spc="-1" strike="noStrike">
                <a:solidFill>
                  <a:srgbClr val="17375e"/>
                </a:solidFill>
                <a:latin typeface="Cambria"/>
              </a:rPr>
              <a:t>to działania organu sprawującego nadzór pedagogiczny lub dyrektora szkoły/placówki prowadzone w szkole lub placówce, obejmujące zbieranie i analizę informacji o działalności dydaktycznej, wychowawczej i opiekuńczej oraz innej działalności statutowej, </a:t>
            </a: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celu identyfikowania i eliminowania zagrożeń </a:t>
            </a:r>
            <a:br>
              <a:rPr sz="2000"/>
            </a:b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w prawidłowej realizacji zadań szkoły lub placówki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Celem działania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yło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Ustalenie prawidłowości działań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dejmowanych przez dyrektorów szkół województwa lubuskiego w okresie czasowego ograniczenia ich funkcjon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zakresi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) 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organizacji i przebiegu procesu edukacyjno-wychowawczego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realizacji zadań  w obszarze sprawowania przez dyrektorów wewnętrznego    </a:t>
            </a: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 nadzoru pedagogicznego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Wspomaganie dyrektorów szkół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oprzez opracowanie narzędzia wskazującego kolejne działania dyrektora wynikające z określonych  przepisów prawa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7375e"/>
                </a:solidFill>
                <a:latin typeface="Cambr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Rekomendacje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3720" y="1428840"/>
            <a:ext cx="959796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4. Niestosowanie się dyrektora szkoły do obowiązujących przepisów prawa oraz brak troski o efektywny proces edukacyjno-wychowawczy oraz skuteczne i wspierające sprawowanie wewnętrznego nadzoru pedagogicznego, powinno spotkać się z interwencją zewnętrznego nadzoru pedagogicznego oraz mieć wpływ na ocenę pracy dyrektora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5. Czynności związane z realizacją zadań wynikających z form zewnętrznego nadzoru pedagogicznego skierowanego do dyrektora szkoły, jak monitorowanie czy wspomaganie – nie mogą być przez dyrektora zlecane nauczycielom lub innym pracownikom szkoł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9" name="Obraz 4" descr="spe 5.jpg"/>
          <p:cNvPicPr/>
          <p:nvPr/>
        </p:nvPicPr>
        <p:blipFill>
          <a:blip r:embed="rId1"/>
          <a:stretch/>
        </p:blipFill>
        <p:spPr>
          <a:xfrm>
            <a:off x="7184880" y="4410000"/>
            <a:ext cx="2089440" cy="24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" y="2421000"/>
            <a:ext cx="95551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ZIĘKUJĘ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Tytuł 1"/>
          <p:cNvSpPr/>
          <p:nvPr/>
        </p:nvSpPr>
        <p:spPr>
          <a:xfrm>
            <a:off x="0" y="5356080"/>
            <a:ext cx="9906120" cy="15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4520" y="11592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87480" y="1628280"/>
            <a:ext cx="9598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Monitorowanie przeprowadzono z wykorzystaniem arkusza/ankiety oraz informacji przesłanych przez dyrektorów szkół do kuratorium oświat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08000" y="2432160"/>
          <a:ext cx="7407360" cy="4392360"/>
        </p:xfrm>
        <a:graphic>
          <a:graphicData uri="http://schemas.openxmlformats.org/drawingml/2006/table">
            <a:tbl>
              <a:tblPr/>
              <a:tblGrid>
                <a:gridCol w="509760"/>
                <a:gridCol w="5089320"/>
                <a:gridCol w="1808280"/>
              </a:tblGrid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Czynn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Ter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wzoru arkusza monitorowania dla szkół i wzoru arkusza zbiorczego dla wizytatorów oraz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6 listopad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pełnianie arkuszy przez dyrektor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 przekazanie ich wizytato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8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przez każdego wizytatora arkusza zbiorczego i przekazanie go przewodniczącej zespoł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16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7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pracowanie arkusza zbiorczego dla województwa oraz raportu zawierającego, wyniki, wnioski i rekomenda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o 20 grudnia 202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14040"/>
            <a:ext cx="83995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              </a:t>
            </a:r>
            <a:r>
              <a:rPr b="1" lang="pl-PL" sz="2400" spc="-1" strike="noStrike">
                <a:solidFill>
                  <a:srgbClr val="1f497d"/>
                </a:solidFill>
                <a:latin typeface="Cambria"/>
              </a:rPr>
              <a:t>Monitorowanie - organizacja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Badaniem objęto łącznie </a:t>
            </a:r>
            <a:r>
              <a:rPr b="1" lang="pl-PL" sz="2000" spc="-1" strike="noStrike">
                <a:solidFill>
                  <a:srgbClr val="000000"/>
                </a:solidFill>
                <a:latin typeface="Cambria"/>
              </a:rPr>
              <a:t>543 (92,82%) 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ublicznych i niepublicznych szkół ogólnodostępnych i specjalnych, w tym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27 szkół podstawow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 szkoły podstawowe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48 liceów ogólnokształcąc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5 liceów ogólnokształcących dla dorosł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technik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53 branżowe szkoły I stopnia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25 szkół policealnych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17 szkół specjalnych przysposabiających do pracy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3 szkoły artystyczn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3800" y="260280"/>
            <a:ext cx="7816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 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0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3720" y="1428840"/>
            <a:ext cx="95979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1. Dyrektor ustalił, czy uczniowie i nauczyciele mają dostęp do infrastruktury informatycznej, oprogramowania i internetu umożliwiających interakcję między uczniami a nauczycielami prowadzącymi zajęcia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1 - ww. rozp. nr 1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2, nie – 1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2. Dyrektor ustalił, we współpracy z nauczycielami, technologie informacyjno-komunikacyjne wykorzystywane przez nauczycieli do realizacji zajęć 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(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§ 1 ust. 1 pkt 2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- 543, nie – 0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3. Dyrektor określił zasady bezpiecznego uczestnictwa w zajęc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w odniesieniu do ustalonych technologii informacyjno-komunikacyjnych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3)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2, nie – 1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4. Dyrektor ustalił, we współpracy z nauczycielami, źródła i materiały niezbędne do realizacji zajęć, z których uczniowie mogą korzystać </a:t>
            </a:r>
            <a:r>
              <a:rPr b="0" lang="pl-PL" sz="2000" spc="-1" strike="noStrike">
                <a:solidFill>
                  <a:srgbClr val="3333cc"/>
                </a:solidFill>
                <a:latin typeface="Cambria"/>
              </a:rPr>
              <a:t>(§ 1 ust. 1 pkt 4</a:t>
            </a:r>
            <a:r>
              <a:rPr b="0" lang="pl-PL" sz="2000" spc="-1" strike="noStrike">
                <a:solidFill>
                  <a:srgbClr val="948a54"/>
                </a:solidFill>
                <a:latin typeface="Cambria"/>
              </a:rPr>
              <a:t>)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543, nie – 0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08520" indent="-30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36520" y="1728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3720" y="1428480"/>
            <a:ext cx="95979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Pyt.5. Szkolny zestaw programów nauczania, po ustaleni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z nauczycielami, został zmodyfikowany zgodnie z potrzebami </a:t>
            </a:r>
            <a:r>
              <a:rPr b="0" lang="pl-PL" sz="2000" spc="-1" strike="noStrike">
                <a:solidFill>
                  <a:srgbClr val="1f497d"/>
                </a:solidFill>
                <a:latin typeface="Cambria"/>
              </a:rPr>
              <a:t>(§ 1 ust. 1 pkt 5) </a:t>
            </a:r>
            <a:r>
              <a:rPr b="0" lang="pl-PL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pl-PL" sz="2000" spc="-1" strike="noStrike">
                <a:solidFill>
                  <a:srgbClr val="ff0000"/>
                </a:solidFill>
                <a:latin typeface="Cambria"/>
              </a:rPr>
              <a:t>tak – 311 , nie – 232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Obraz 3" descr=""/>
          <p:cNvPicPr/>
          <p:nvPr/>
        </p:nvPicPr>
        <p:blipFill>
          <a:blip r:embed="rId1"/>
          <a:stretch/>
        </p:blipFill>
        <p:spPr>
          <a:xfrm>
            <a:off x="1712880" y="2571840"/>
            <a:ext cx="6481800" cy="37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5000" y="142920"/>
            <a:ext cx="7817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6. Program wychowawczo-profilaktyczny został zmodyfikowany, zgodnie z potrzebami, w porozumieniu z radą pedagogiczną i radą rodziców </a:t>
            </a:r>
            <a:r>
              <a:rPr b="0" lang="pl-PL" sz="2200" spc="-1" strike="noStrike">
                <a:solidFill>
                  <a:srgbClr val="3333cc"/>
                </a:solidFill>
                <a:latin typeface="Cambria"/>
              </a:rPr>
              <a:t>(§ 1 ust. 1 pkt 6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359, nie – 180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7" name="Obraz 4" descr=""/>
          <p:cNvPicPr/>
          <p:nvPr/>
        </p:nvPicPr>
        <p:blipFill>
          <a:blip r:embed="rId1"/>
          <a:stretch/>
        </p:blipFill>
        <p:spPr>
          <a:xfrm>
            <a:off x="1935000" y="2852640"/>
            <a:ext cx="5904000" cy="33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188640"/>
            <a:ext cx="78170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Wyniki monitorowania ankietowego</a:t>
            </a:r>
            <a:br>
              <a:rPr sz="2400"/>
            </a:br>
            <a:r>
              <a:rPr b="1" lang="pl-PL" sz="2400" spc="-1" strike="noStrike">
                <a:solidFill>
                  <a:srgbClr val="376092"/>
                </a:solidFill>
                <a:latin typeface="Cambria"/>
              </a:rPr>
              <a:t>(1) </a:t>
            </a:r>
            <a:r>
              <a:rPr b="1" lang="pl-PL" sz="2400" spc="-1" strike="noStrike">
                <a:solidFill>
                  <a:srgbClr val="ff0000"/>
                </a:solidFill>
                <a:latin typeface="Cambria"/>
              </a:rPr>
              <a:t>organizacja i przebieg procesu edukacyjnego</a:t>
            </a:r>
            <a:endParaRPr b="1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3720" y="1428480"/>
            <a:ext cx="95979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Pyt.7.  Dyrektor ustalił, we współpracy z nauczycielami, tygodniowy zakres treści nauczania z zajęć wynikających z ramowych planów nauczania dla poszczególnych typów szkół do zrealizowania w poszczególnych oddziałach klas (semestrów) oraz tygodniowy zakres treści nauczania z zajęć realizowanych w formach pozaszkolnych, uwzględniając bezpieczeństw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mbria"/>
              </a:rPr>
              <a:t>i higienę pracy oraz ograniczenia wynikające ze specyfiki zajęć </a:t>
            </a:r>
            <a:r>
              <a:rPr b="0" lang="pl-PL" sz="2200" spc="-1" strike="noStrike">
                <a:solidFill>
                  <a:srgbClr val="1f497d"/>
                </a:solidFill>
                <a:latin typeface="Cambria"/>
              </a:rPr>
              <a:t>(§ 1 ust. 1 pkt 7): </a:t>
            </a:r>
            <a:r>
              <a:rPr b="0" lang="pl-PL" sz="2200" spc="-1" strike="noStrike">
                <a:solidFill>
                  <a:srgbClr val="ff0000"/>
                </a:solidFill>
                <a:latin typeface="Cambria"/>
              </a:rPr>
              <a:t>tak – 529, nie – 14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0" name="Obraz 3" descr=""/>
          <p:cNvPicPr/>
          <p:nvPr/>
        </p:nvPicPr>
        <p:blipFill>
          <a:blip r:embed="rId1"/>
          <a:stretch/>
        </p:blipFill>
        <p:spPr>
          <a:xfrm>
            <a:off x="2720880" y="3868560"/>
            <a:ext cx="5184720" cy="28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51:31Z</dcterms:created>
  <dc:creator>User</dc:creator>
  <dc:description/>
  <dc:language>en-US</dc:language>
  <cp:lastModifiedBy>Wizytator</cp:lastModifiedBy>
  <dcterms:modified xsi:type="dcterms:W3CDTF">2021-01-30T15:26:23Z</dcterms:modified>
  <cp:revision>689</cp:revision>
  <dc:subject/>
  <dc:title>Slajd 1</dc:title>
</cp:coreProperties>
</file>