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68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6880" cy="375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1600" cy="4508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00600" y="951840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899-F43E-44BE-B62A-3142C4785748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6880" cy="375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160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900600" y="951876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5647-ED0B-4E62-B012-15B5A2F59850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AEE-FBB5-44A9-9C35-37B964E8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F14-9CA5-4ED6-8B8D-F860407D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376-1300-4093-8FA0-061182EF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FA6-0F6E-4A1A-9797-E457AC41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3D7-370E-4B23-AD0F-E4E4206B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A65-6C51-4AC3-810F-7B23A58C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813-7614-4052-911A-A2D70F2A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BE0-99A5-4E34-B780-A0F8CFA1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F4A-E71A-4D5A-B14A-D98DF909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8F1-17B6-4B95-8832-6722CF3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E48-933C-4341-BEFD-F2FD7270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E69-2D9D-442E-A96A-8CFAA72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DA7B-3E78-47D9-BE3F-1863FC1A7C75}" type="datetime">
              <a:rPr b="0" lang="pl-PL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4BE5-76E6-48CB-A7D1-D07F243239D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Obraz 6" descr="NAGŁÓWEK Z BIAŁYMI PASKAMI.png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71960" y="285732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Oferta edukacyjna Wojewódzkiego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Ośrodka Metodycznego 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w Gorzowie Wielkopolskim 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na rok szkolny 2021/2022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1B88-A108-4920-B326-64D2BB59E8F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3"/>
          <p:cNvSpPr/>
          <p:nvPr/>
        </p:nvSpPr>
        <p:spPr>
          <a:xfrm>
            <a:off x="857160" y="59292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6-400 Gorzów Wielkopolski, ul. Łokietka 23, 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95 721 61 -10, -11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-mail: wom@womgorz.edu.pl     www.womgorz.edu.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4" descr="Budynek1.jpg"/>
          <p:cNvPicPr/>
          <p:nvPr/>
        </p:nvPicPr>
        <p:blipFill>
          <a:blip r:embed="rId1"/>
          <a:stretch/>
        </p:blipFill>
        <p:spPr>
          <a:xfrm>
            <a:off x="685800" y="907920"/>
            <a:ext cx="3087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OFERTA SZKOLENIOWA DLA KADRY KIEROWNICZ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W roku szk. 2021/2022 proponujemy m.in.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arcie dyrektorów i wicedyrektorów w warunkach kształcenia na odległoś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tynuację szkoleń związanych ze zmianami w prawie oświatowym, w tym szkolenia w zakresie edukacji prawnej dyrektorów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ykl szkoleń związanych z oceną pracy i awansem zawodowym nauczyciel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skonalenie w zakresie sprawowania nadzoru pedagogiczn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7114-D5E1-4A83-85A6-A8C49F9154C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Szkolenia online dla dyrektor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341360"/>
          <a:ext cx="8229600" cy="5199120"/>
        </p:xfrm>
        <a:graphic>
          <a:graphicData uri="http://schemas.openxmlformats.org/drawingml/2006/table">
            <a:tbl>
              <a:tblPr/>
              <a:tblGrid>
                <a:gridCol w="585720"/>
                <a:gridCol w="764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tuł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9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ania dyrektora szkoły w zakresie obowiązku prowadzenia Biuletynu Informacji Publicznej oraz dokonywania wydatków publiczn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9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zór pedagogiczny po pandem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owanie działań w nadzorze pedagogicz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wo w pracy dyrekt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yzje administracyjne w sz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cedyrektor w sz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yrektor szkoły a organ prowadzą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8651-F955-4AF5-8C14-DBCE13DE862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Szkolenia online dla dyrektor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3854520"/>
        </p:xfrm>
        <a:graphic>
          <a:graphicData uri="http://schemas.openxmlformats.org/drawingml/2006/table">
            <a:tbl>
              <a:tblPr/>
              <a:tblGrid>
                <a:gridCol w="585720"/>
                <a:gridCol w="764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tuł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9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owanie czy odbudowanie partnerskiej współpracy z rodzicam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rządzanie czas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iem kompetencji kluczowych w praktyce szkolnej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iekun stażu w procedurze awansu zawodowego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 mianowany w drodze do dyplomowania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dyrektor, e-nauczyciel – budowanie wizerunku prowadzącego zajęcia online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5E86-7011-4ED4-A01F-8E2A803FE69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ompleksowe wspomaganie szkół/placów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oku szkolnym 2021/2022  kontynuowany będzie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„</a:t>
            </a: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Program wspomagania szkół i placówek województwa lubuskiego przez Wojewódzki Ośrodek Metodyczny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w Gorzowie Wielkopolskim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pt. „Połączmy siły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CC71-5217-4DE9-8049-E3DAE55EF50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Program wspomagania szkół i placówek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województwa lubuskiego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stawą realizacji programu jest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rozumieni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zawiera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WOM z przedszkolem/szkołą/placów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sady realizacji Programu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mieszczone są na stronie Ośrod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www.womgorz.edu.pl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ładka: Oferta szkoleń „WSPOMAGANIE SZKÓ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ordynator projektu: mgr Małgorzata J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95 7216-122, tel. kom. 509-517-1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-mail: malgorzata.jach@womgorz.edu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36B7-39FD-4BCD-8649-C56025909307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Sieci współpracy i samokształcenia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formą wspomagania nauczycieli i dyrek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m funkcjonowania 22 sieci współpracy i samokształce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la nauczycieli oraz  dyrektorów szkół i placówek jest doskonalenie ich  pracy, w szczególności poprzez wymianę doświadcze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ieci mają charakter przedmiotowy lub problem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oby uczestniczące w sieciach współpracy i samokształcenia otrzymują zaświadczenia potwierdzające uczestnic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9A2B-758C-4773-BFD0-68D9B5A94A4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-3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ieci współpracy i samokształcenia dyrek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1484280"/>
          <a:ext cx="8351640" cy="4538520"/>
        </p:xfrm>
        <a:graphic>
          <a:graphicData uri="http://schemas.openxmlformats.org/drawingml/2006/table">
            <a:tbl>
              <a:tblPr/>
              <a:tblGrid>
                <a:gridCol w="4599000"/>
                <a:gridCol w="3752640"/>
              </a:tblGrid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dyrektorów/wicedyrektorów szkół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cówek oświatowych  (o krótkim staż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yrektorzy i wicedyrektorzy szkół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cówek oświatowych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D. Janiszew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40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dyrektorów poradni psychologiczno-pedagogicznych –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yrektorzy i wicedyrektorz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  psychologiczno-pedagogicz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L. Pyżyń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dyrektorów i nauczycieli przedszkoli -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yrektorzy i nauczyciele przedszk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D. Turłaj, J. Tala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5DC-A8F1-4CE1-B0EC-54197A86C0B7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ieci współpracy i samokształcenia nauczyci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171440"/>
          <a:ext cx="8229600" cy="4583160"/>
        </p:xfrm>
        <a:graphic>
          <a:graphicData uri="http://schemas.openxmlformats.org/drawingml/2006/table">
            <a:tbl>
              <a:tblPr/>
              <a:tblGrid>
                <a:gridCol w="4897440"/>
                <a:gridCol w="3332160"/>
              </a:tblGrid>
              <a:tr h="38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„Narzędzia TIK wspomagające pracę nauczyciela”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K. Tomic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pedagogów szkolnych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agodzy szkolni wszystkich typów szkół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cówek. 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B. Basiń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logopedów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opedzi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A. Spirydowicz-Kacper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wychowania do życia w rodzinie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wychowania do życia w rodzinie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J. Krzewska-Gordzijew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edukacji wczesnoszkolnej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edukacji wczesnoszkolnej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A. Domagał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 polskiego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. polskiego szkół 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B. Gizińska-Gigoł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 polskiego szkół ponad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. polskiego szkół ponad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M. Niewiadom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DB20-51F6-4ED3-9398-99470091366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ieci współpracy i samokształcenia nauczycie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1341360"/>
          <a:ext cx="8353440" cy="4591080"/>
        </p:xfrm>
        <a:graphic>
          <a:graphicData uri="http://schemas.openxmlformats.org/drawingml/2006/table">
            <a:tbl>
              <a:tblPr/>
              <a:tblGrid>
                <a:gridCol w="4897440"/>
                <a:gridCol w="3456000"/>
              </a:tblGrid>
              <a:tr h="43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języków obcych 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Dryle językowe: bank pomysłów i wspólny cel czyli efektywniejsze nauczanie gramatyki” </a:t>
                      </a: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ęzyków obcych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U. Polań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języka niemieckiego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. niemieckiego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I. Trzaskow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histori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S 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historii i wos szkół 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J. Stępkow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9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histori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S  szkół ponad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historii i wos  szkół ponad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J. Dutkiewi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 nauczycieli matematyki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matematyki  szkół  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I. Jankowska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 nauczycieli matematyki szkół ponadpodstawowych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matematyki szkół  ponad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D. Tomczak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8B80-580C-4571-89F4-28434C3420F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ieci współpracy i samokształcenia nauczyci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397400"/>
        </p:xfrm>
        <a:graphic>
          <a:graphicData uri="http://schemas.openxmlformats.org/drawingml/2006/table">
            <a:tbl>
              <a:tblPr/>
              <a:tblGrid>
                <a:gridCol w="4330800"/>
                <a:gridCol w="3898800"/>
              </a:tblGrid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biologii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biologii szkół  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A. Duszka-Sond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 fizyki  wszystkich typów szkó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fizyki wszystkich typów szkó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Z. Łucz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 geografii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geografii wszystkich typów szkó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R. Jaroszewi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adców zawodowych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adcy zawodowi oraz nauczyciele prowadzący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jęcia doradztwa zawodowego.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B. Matus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kształcenia zawodowego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kształcenia zawodowego wszystkich typów szkół.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S. Pawlacz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bibliotekarzy szkolnych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bibliotekarze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M. Janas, M. Markowsk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12C3-3F3A-4260-8183-604B53125FC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ferta szkole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szkoleń na rok szkolny 2021/2022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ublikowana jest na stronie WOM-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ttps://womgorz.edu.pl/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praszamy nauczycieli i kadrę kierowniczą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korzystania z naszych zasobów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usług zarówno w siedzibie WOM-u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Biblioteki Pedagogicznej,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ównież z usług świadczonych on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D892-6967-4512-9037-DEC6798B22A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400" spc="-1" strike="noStrike">
                <a:solidFill>
                  <a:srgbClr val="4f81bd"/>
                </a:solidFill>
                <a:latin typeface="Calibri"/>
              </a:rPr>
              <a:t>Szkolenia rad pedagogiczny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ferta na rok szk. 2021/2022 zawier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36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ma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adresowana jest do wszystkich typów szkół i placów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szystkie szkolenia planowane są do realizacji zarówno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formie stacjonarnej jak i onlin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matyka szkoleń uwzględnia podstawowe kierunki polityki oświatowej państwa, wnioski z nadzoru pedagogicznego sprawowanego przez LK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az wyniki egzaminów zewnętrznych szkół lubuski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Dyrektorów szkół i placówek</a:t>
            </a: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zachęcamy do zamawiania szkoleń z oferty WOM-u,</a:t>
            </a: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 ale także tematów własnych  - spoza naszej of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E807-189C-4F45-BDC8-89130E80991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052640"/>
          <a:ext cx="8497800" cy="4846680"/>
        </p:xfrm>
        <a:graphic>
          <a:graphicData uri="http://schemas.openxmlformats.org/drawingml/2006/table">
            <a:tbl>
              <a:tblPr/>
              <a:tblGrid>
                <a:gridCol w="647640"/>
                <a:gridCol w="7850160"/>
              </a:tblGrid>
              <a:tr h="4633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603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wo oświatowe w pracy  nauczyciel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ziałania innowacyjne w przedszkolu/szko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5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ie cyfrowe w szkole po pandem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08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zędzia internetowe w pracy nauczycie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pieczeństwo dzieci i młodzieży w cyberprzestrze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6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oholizm wśród dzieci i młodzieży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– organizacja pra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5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– planowanie i dokumentowanie pra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– kształtowanie kompetencji kluczowych przedszkolak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 - konstruowanie scenariuszy zajęć i sytuacji edukacyjnych w przedszkolu  (szkolenie z możliwością udziału rodziców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E157-AC1C-4B8D-8FAE-9FEAD94F884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982800"/>
          <a:ext cx="8280360" cy="5254560"/>
        </p:xfrm>
        <a:graphic>
          <a:graphicData uri="http://schemas.openxmlformats.org/drawingml/2006/table">
            <a:tbl>
              <a:tblPr/>
              <a:tblGrid>
                <a:gridCol w="647640"/>
                <a:gridCol w="7632720"/>
              </a:tblGrid>
              <a:tr h="49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065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yczyny agresywnych zachowań dziecka przedszkolnego.  Jak rozpoznać i pomóc?    </a:t>
                      </a:r>
                      <a:br>
                        <a:rPr sz="16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zkolenie z możliwością udziału rodziców)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wspierać ucznia z zespołem Asperger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poznawać i zaspokajać potrzeby psychofizyczne uczniów wpływające na jakość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h zdrowia psychicznego?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przeciwdziałać przemocy rówieśniczej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pustego i Salomon nie naleje. Jak znaleźć siłę i motywację do pracy z ucznia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pandemii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koła dobrych relacji. Jak budować klimat po okresie dezintegracji oraz izolacji społecznej uczniów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mawiać z dzieckiem/uczniem w sytuacji trudnej i kryzysowej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szkoła/przedszkole może stać się placówką promującą zdrowi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ki pracy lekcyjnej wspierające uczniów w uczeniu si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71D0-3A73-4D37-801A-C87F54A93AA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246320"/>
          <a:ext cx="8218440" cy="4911480"/>
        </p:xfrm>
        <a:graphic>
          <a:graphicData uri="http://schemas.openxmlformats.org/drawingml/2006/table">
            <a:tbl>
              <a:tblPr/>
              <a:tblGrid>
                <a:gridCol w="658800"/>
                <a:gridCol w="7559640"/>
              </a:tblGrid>
              <a:tr h="55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podnieść wynik na  egzaminie ósmoklasisty? Rekomendacje na podstawie analizy wyników kolejnego egzam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co warto zwrócić uwagę, analizując wynik swojej szkoły uzyskany na egzaminie ósmoklasisty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ura w 2023 roku – informacje dla rady pedagogiczne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uczyć jeszcze lepiej? Metody i techniki uczenia się przyjazne mózgow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nauki w szkole XXI wieku w świetle osiągnięć neurodydaktyk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dywidualizowana ścieżka kształcenia, nauczanie indywidualne i nauczanie domowe – zadania szkoły oraz obowiązki i dylematy nauczyciel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kompetencje kluczowe na przykładzie języka polskiego, historii, wiedz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społeczeństwie i lekcji wychowawczych 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kompetencje kluczowe w szkole podstawowej na przykładzie języków obcy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450B-025E-4D14-9146-11F34A56C29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128600"/>
          <a:ext cx="8229600" cy="5540400"/>
        </p:xfrm>
        <a:graphic>
          <a:graphicData uri="http://schemas.openxmlformats.org/drawingml/2006/table">
            <a:tbl>
              <a:tblPr/>
              <a:tblGrid>
                <a:gridCol w="585720"/>
                <a:gridCol w="7643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kompetencje kluczowe w szkole podstawowej na przykładzie matematyk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rzedmiotów przyrodniczy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ślenie krytyczne – kompetencja XXI wie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uczenia się w kontekście ich przyszłych decyzji edukacyjno-zawodowy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ma edukacji bez dobrych relacji – wprowadzenie do metody tutoringu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cje wychowawcze online – budowanie relacji w czasach zdalnej edukacj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aching w rozwiązywaniu problemów wychowawczych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pbook zamiast „kopiuj wklej”. Propozycja metodyczna na lekcje różnych przedmiotów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szkole podstawowe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ory edukacyjne wycieczek po województwie lubuskim – organizacja warsztatów terenow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anie hybrydowe i e-learning po pandemii – szansa na nową jakość edukacji czy obciążeni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A24D-9B6E-4B5A-94D9-F80510011CF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szkoleń warsztatowych proponowanych do realizacji w siedzibach szkół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ejmuje </a:t>
            </a: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22 tematy,</a:t>
            </a:r>
            <a:br>
              <a:rPr sz="2800"/>
            </a:b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ponowane do realizacji </a:t>
            </a:r>
            <a:br>
              <a:rPr sz="2800"/>
            </a:b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tylko w formie stacjonarnej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to szkolenia dla grup liczących do 15 uczestników 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w przypadku szkoleń informatycznych – liczba uczestników powinna odpowiadać liczbie stanowisk komputerowych).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Przyjmowane są również zamówienia na tematy spoza of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E42F-026B-479C-94C6-0196AAD51C2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Warsztaty w sz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341360"/>
          <a:ext cx="8135640" cy="5097600"/>
        </p:xfrm>
        <a:graphic>
          <a:graphicData uri="http://schemas.openxmlformats.org/drawingml/2006/table">
            <a:tbl>
              <a:tblPr/>
              <a:tblGrid>
                <a:gridCol w="471240"/>
                <a:gridCol w="7664400"/>
              </a:tblGrid>
              <a:tr h="286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owanie dla najmłodszych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rzenie interaktywnych gier i zabaw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tosowanie narzędzi cyfrowych na lekcjach różnych przedmiotó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woczesna edukacja z tablicą interaktywną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tosowanie interaktywnych narzędzi w nauczani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kacja zdalna z MicrosoftTeams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woczesne narzędzia cyfrowe wspomagające dydaktykę w szkole/placówc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cę świadomie wspierać rozwój swojego dziecka – warsztat uważnego rodzica (możliwość udziału rodziców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a nauczyciela przedszkola z zastosowaniem „Arkusza rozwoju dziecka w wieku od 3 do 6 lat – obserwacje pedagogiczne i diagnoza przedszkolna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8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y rozwijające pamięć i myślenie dzieci w wieku przedszkolny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FBA7-531B-4F44-B714-958BDE1436B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341360"/>
          <a:ext cx="8229600" cy="4330800"/>
        </p:xfrm>
        <a:graphic>
          <a:graphicData uri="http://schemas.openxmlformats.org/drawingml/2006/table">
            <a:tbl>
              <a:tblPr/>
              <a:tblGrid>
                <a:gridCol w="514440"/>
                <a:gridCol w="7715160"/>
              </a:tblGrid>
              <a:tr h="316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439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ady, konsekwencje i normy współżycia w grupie przedszkolne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4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onomia w przedszkolu – „ABC ekonomii czyli pierwsze kroki w świecie finansów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atia w przedszkolu – „ABC empatii, bo wszyscy jesteśmy tacy sami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poszukiwaniu ciszy – ćwiczenia pomagające dziecku przedszkolnemu odnaleźć spokój i rozwinąć uważnoś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wyczajnie towarzyskie zamiast specjalnej troski” – jak wspierać uczniów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niepełnosprawnością intelektualną w sytuacjach trudnych i nietypowych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ywna rzeczywistość sensoryczna dzieci ze spektrum autyz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oring w szko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nauk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6535-5CDC-4E38-911A-1AC0AB7910E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3311640"/>
        </p:xfrm>
        <a:graphic>
          <a:graphicData uri="http://schemas.openxmlformats.org/drawingml/2006/table">
            <a:tbl>
              <a:tblPr/>
              <a:tblGrid>
                <a:gridCol w="658800"/>
                <a:gridCol w="75708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z się z zapałem!”  Techniki efektywnego nauczania w procesie lekcyjny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ykłady dobrych praktyk nauczania zdalnego – co i dlaczego warto wykorzystać po powrocie do szkół?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sa różnych prędkości”  –  jak indywidualizować pracę uczniów, wspierać ich autonomię i motywację do nauki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muzyczny potencjał małego dziecka w wieku 0-6 la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BC0C-90D7-41B4-91F6-6D5BA80F869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Konferencje problem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matyka konferencji problemowych  w roku szk. 2021/22 wynikać będzie ze zmian w systemie edukacji oraz z kierunków polityki oświatowej państwa a także z potrzeb zgłaszanych przez nauczycieli i dyrektor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ół i placów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Plan szczegółowy konferencji problemowych zostanie opublikowan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na stronie internetowej WOM-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OM będzie także współorganizatorem konferencji organizowanych przez Akademię im. Jakuba z Paradyża w Gorzowie Wielkopol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5AC1-BD66-4EC7-B495-9D1ED23E5EA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Działalność szkoleniowa Oś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e względu na utrzymujący się stan pandemii oferta szkoleniowa zawiera podwójny katalog:  </a:t>
            </a:r>
            <a:br>
              <a:rPr sz="2800"/>
            </a:b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szkoleń stacjonarnych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szkoleń on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roku szkolnym 2021/2022 oferujemy nauczycielom i kadrze zarządzającej 550 różnego rodzaju szkoleń: kursów, warsztatów, seminariów, szkoleń rad pedagogicznych, warsztatów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zkole, konferencji, sieci współprac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samokształcenia, w tym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336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w formie stacjonarnej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i 214   w formi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C85A-6352-4C2D-8B11-50E15933848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libri"/>
              </a:rPr>
              <a:t>Konferencje przedmiotowo-metody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Konferencje przedmiotowo-metodyczne organizowane są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co roku w ostatnim tygodniu sierpnia i adresowane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do nauczycieli wszystkich przedmiotów i specjalności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W okresie od 23 sierpnia do 7 września 2021 r. odbędą się konferencje inaugurujące nowy rok szkolny 2021/2022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Spośród  27 konferencji przedmiotowo-metodycznych </a:t>
            </a:r>
            <a:br>
              <a:rPr sz="2300"/>
            </a:b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25 odbędzie się w formie online.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Natomiast w sierpniu 2022 r. przewiduje się organizację 27 konferencji przedmiotowo-metodycznych,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w tym 16 w formie onlin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Zapraszamy nauczycieli do udziału. Szczegółowy harmonogram zamieszczony jest na stronie internetowej WOM-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547-73B9-4850-BD09-45BD218A4B2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ursy nadające uprawnienia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na kierownika wypoczynku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na wychowawcę wypoczynku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36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 na kierownika wycieczek szkolnych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12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przygotowujący nauczycieli do prowadzenia zajęć edukacyjnych w zakresie udzielania pierwszej pomo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3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formacji szczegółowych udziela Biuro Obsługi Szkoleń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kierownicy poszczególnych kurs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5 -721-61-14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CDCA-8E9B-4529-8C8A-18B129099D5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112500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 roku szkolnym 2021/2022 WOM  proponuje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studia podyplomowe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na podstawie porozumienia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 Akademią im. Jakuba  z Paradyża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Gorzowie Wielkopolski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rządzanie oświatą </a:t>
            </a:r>
            <a:br>
              <a:rPr sz="2400"/>
            </a:b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(250 godz. w tym 30 godz. praktyki kierowniczej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Informacji szczegółowych udziela Biuro Obsługi Szkoleń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bos.katarzyna.szczepaniak@womgorz.edu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95 -721-61-14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820C-435E-44FB-AC8A-1616B995C92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PARTNERSTWO W PROJEKTACH  UNI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roku szkolnym 2021/2022 WOM będzie kontynuował realizację zadań jako partner nw. projektów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Modernizacja kształcenia zawodowego w Powiecie Strzelecko-Drezdenecki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ojekt realizowany w ramach RPO Lubuskie 2020, Oś 8 „Nowoczesna edukacja”, Działanie 8.4 „Doskonalenie jakości kształcenia zawodowego”, Poddziałania 8.4.1 „Doskonalenie jakości kształcenia zawodowego, projekty realizowane poza formułą ZIT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Termin realizacji projektu:  wrzesień 2016 – czerwiec 2022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Modernizacja kształcenia zawodowego w Powiecie Żarski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ojekt realizo­wany w  ramach RPO Lubuskie 2020, Oś 8 „Nowoczesna edukacja”, Działanie 8.4 „Doskonalenie jakości kształcenia zawodowego”, Poddziałania 8.4.1 „Doskonalenie jakości kształcenia zawodowego, projekty realizowane poza formułą ZIT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Termin realizacji projektu:  wrzesień 2016 – czerwiec 2022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Szkoła  ćwiczeń w Gorzowie Wielkopolskim 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– w ramach POWER 2014-2020, Oś Priorytetowa  II „Efektywne polityki publiczne dla rynku pracy, gospodarki i edukacji”, Działanie 2.10. „Wysoka jakość systemu oświaty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7375e"/>
                </a:solidFill>
                <a:latin typeface="Calibri"/>
              </a:rPr>
              <a:t>Termin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  realizacji projektu:  2020 – 20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Liderem projektu jest Miasto  Gorzów Wielkopolski, a partnerami są: WOM Gorzów,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Akademia im. Jakuba 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 Paradyża w Gorzowie Wielkopolsk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D0F3-DD12-46F1-8A2A-9049980189B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PARTNERSTWO W PROJEKTACH  UNI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Bez granic: nauka – praca – życie. Orientacja zawodowa na pograniczu polsko-niemieckim    – rozwiązanie modelowe na przykładzie Euroregionu PRO EUROPA VIADRINA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jekt przygotowany został wspólnie z Institut für Oekonomische Bildung z Oldenburga w ramach osi priorytetowej III Programu „Interreg Va Brandenburgia-Lubuskie 2014-2020”. Liderem projektu jest IHK Projekt­gesellschaft mbH Frankfurt/O (Niemcy), a WOM jest jedny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 siedmiu partneró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Termin realizacji projektu: 2018 -20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CFC9-FE59-40BD-A59D-33D848B1BCE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Calibri"/>
              </a:rPr>
              <a:t>Rejon OKE w WOM-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odstawie porozumienia pomiędzy Dyrektorem WOM-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 Dyrektorem OKE w Poznaniu w Wojewódzkim Ośrodku Metodycznym znajduje si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iedziba rejonu koordynacji egzaminów zewnętrznych dla szkół siedmiu północnych powiatów lubu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praca obejmuje działalność informacyjną, szkoleniow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organizacyjn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364A-520F-4CC6-9FFC-8699F730A9D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Biblioteka Pedagogiczna WOM-u</a:t>
            </a:r>
            <a:br>
              <a:rPr sz="36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l. Łokietka 20A,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95) 721-61-4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Symbol zastępczy zawartości 4" descr="BIBLIOT.jpg"/>
          <p:cNvPicPr/>
          <p:nvPr/>
        </p:nvPicPr>
        <p:blipFill>
          <a:blip r:embed="rId1"/>
          <a:stretch/>
        </p:blipFill>
        <p:spPr>
          <a:xfrm>
            <a:off x="682560" y="1700280"/>
            <a:ext cx="3353040" cy="4524480"/>
          </a:xfrm>
          <a:prstGeom prst="rect">
            <a:avLst/>
          </a:prstGeom>
          <a:ln w="0">
            <a:noFill/>
          </a:ln>
        </p:spPr>
      </p:pic>
      <p:sp>
        <p:nvSpPr>
          <p:cNvPr id="156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F1E7-80E3-4997-8589-AD2705FC6F1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5"/>
          <p:cNvSpPr/>
          <p:nvPr/>
        </p:nvSpPr>
        <p:spPr>
          <a:xfrm>
            <a:off x="4067280" y="1989000"/>
            <a:ext cx="482580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Organizuje i prowadzi wspomaganie: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szkół i placówek w realizacji zada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dydaktycznych, wychowawcz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i opiekuńczyc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bibliotek szkol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Organizuje i prowadzi sieci współpracy</a:t>
            </a:r>
            <a:br>
              <a:rPr sz="1800"/>
            </a:b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   i samokształcenia dla nauczycie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Calibri"/>
              </a:rPr>
              <a:t>Propon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gaty wybór zajęć edukacyjnych, lekcji bibliotecznych  (realizacja w BP lub szk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375e"/>
                </a:solidFill>
                <a:latin typeface="Calibri"/>
              </a:rPr>
              <a:t>Zaprasza do Galerii „Na mansardzi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 obejrzenia interesujących wyst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prezentowania dorobku artystycznego swoich uczniów, nauczyci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-154800" y="44280"/>
            <a:ext cx="9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Biblioteka Pedagogiczna stanowi wojewódzkie multimedialne centrum informacji pedagogicznej oraz centrum zbiorów z zakresu pedagogiki, psychologii i nauk pokrewnyc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4" descr=""/>
          <p:cNvPicPr/>
          <p:nvPr/>
        </p:nvPicPr>
        <p:blipFill>
          <a:blip r:embed="rId2"/>
          <a:stretch/>
        </p:blipFill>
        <p:spPr>
          <a:xfrm>
            <a:off x="324000" y="554040"/>
            <a:ext cx="5936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Zapraszamy Państwa do współpracy 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i korzystania z oferty WOM i BP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	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głoszenia na wszystkie formy doskonalenia organizowane przez W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przyjmowane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są</a:t>
            </a:r>
            <a:r>
              <a:rPr b="1" lang="pl-PL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drogą elektroniczną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 pośrednictwem strony internetow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4f81bd"/>
                </a:solidFill>
                <a:latin typeface="Calibri"/>
              </a:rPr>
              <a:t>www.womgorz.edu.p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23CF-C2F9-4395-8BC4-D587FD52037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formacji na temat szkoleń udzie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Biuro Obsługi Szkole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.: 95 721 61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-mail: </a:t>
            </a:r>
            <a:br>
              <a:rPr sz="32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os.katarzyna.szczepaniak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os.anna.olejniczak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os.katarzyna.burdzinska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694B-F7AA-44B8-931A-982B72CC2DB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Priorytety stałe w działalności szkolen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runki polityki oświatowej państ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nioski z nadzoru pedagogicznego sprawowanego    przez Lubuskiego Kuratora Oświ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niki egzaminów zewnętrzny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9AEC-B977-4C32-A850-C8BCD1CEFED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58ed5"/>
                </a:solidFill>
                <a:latin typeface="Calibri"/>
              </a:rPr>
              <a:t>Priorytet spowodowany pandemi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pomaganie psychopedagogiczn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uczycieli, uczniów i rodzicó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B4A6-48BA-4AC5-BAFB-355D4F28AB6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ferta szkole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zupełniona jest  ofertą kursów nadających uprawnienia i studiów podyplom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Zgłoszenia na wszystkie formy szkoleń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prowadzone są 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w formie elektronicz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8FD8-AF3A-4480-94B0-71F7C716903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ferta  szkoleń Oś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WOM-u zawiera  następujące formy doskonale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74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arsztaty, seminaria, kursy doskonalące, w tym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89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tematy „warsztatów w szkol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tematów szkoleń rad pedagogicznych – wszystkie również w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ormi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konferencji przedmiotowo-metodyczn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w tym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6 onlin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) oraz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4 kursy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dające uprawnienia i inne szkol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A54C-74D8-453E-A3FB-FD8528FDE5B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Organizacja Oś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dania statutowe realizują cztery Pracowni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Zarządzania Oświat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Psychoedukacji i Wychowa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Doskonalenia Metodyczneg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Technologii Informacyjn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7375e"/>
                </a:solidFill>
                <a:latin typeface="Calibri"/>
              </a:rPr>
              <a:t>oraz  Biblioteka Pedagogicz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adto w ramach sieci utworzonej przez Lubuskiego Kuratora Oświaty zadania doradcy metodycznego realizować będzie 17 nauczyciel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DF6D-366F-4A00-AF10-90E69965FB3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ZESPÓŁ  DORADCÓW  METOD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kaz doradców metodycznych zamieszczony j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stronie internetowej Ośrodka w zakład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DORADZTWO METODYCZNE”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której znajdują się informacje dotyczące funkcjonowania doradców metodyczn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„SERWISY DORADCÓW”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zawierające bogate materiały dla nauczycie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A7CB-5A99-4233-84BB-AE0451C6DFB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9:55:47Z</dcterms:created>
  <dc:creator>Emil</dc:creator>
  <dc:description/>
  <dc:language>en-US</dc:language>
  <cp:lastModifiedBy>Wojewódzki Ośrodek Metodyczny</cp:lastModifiedBy>
  <cp:lastPrinted>2021-08-16T06:29:27Z</cp:lastPrinted>
  <dcterms:modified xsi:type="dcterms:W3CDTF">2021-08-16T10:26:25Z</dcterms:modified>
  <cp:revision>498</cp:revision>
  <dc:subject/>
  <dc:title>Slajd 1</dc:title>
</cp:coreProperties>
</file>