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86575" cy="10021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86800" cy="100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862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00600" y="-360"/>
            <a:ext cx="298584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41400" y="752400"/>
            <a:ext cx="5006880" cy="375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9040" y="4760640"/>
            <a:ext cx="5511600" cy="4508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9518400"/>
            <a:ext cx="29862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00600" y="9518400"/>
            <a:ext cx="298584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573E-DEA0-4643-BD80-6D7548FEB2DD}" type="slidenum">
              <a:rPr b="0" lang="pl-P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41400" y="752400"/>
            <a:ext cx="5006880" cy="3756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9040" y="4760640"/>
            <a:ext cx="551160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ymbol zastępczy numeru slajdu 3"/>
          <p:cNvSpPr/>
          <p:nvPr/>
        </p:nvSpPr>
        <p:spPr>
          <a:xfrm>
            <a:off x="3900600" y="951876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000C-F622-44B2-8AD0-C2BB67891DF1}" type="slidenum">
              <a:rPr b="0" lang="pl-P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34FA-2E4A-4377-8A49-4EDF7C5BB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1B7D-5FDF-44D3-8A46-D9B6BC8E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B7E4-3A45-473C-B04A-4F0FE15D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8C10-E5D0-4430-99A3-2669936C4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2266-3CBB-4D88-AAF4-AE884617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2F26-29E9-43D3-B30D-D21A9526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8CF2-DDD1-4987-9494-AFCAEB3A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0239-1953-4A7B-A48B-9DC894DB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7CDD-397B-4D25-96AE-87459542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013D-90B0-4F04-8D38-32274E27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9C1A-46CA-49B2-8338-5A31C6ED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D549-AE70-4C00-BBB7-5B515E75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9C8C-5567-4748-A05D-C0150165544E}" type="datetime">
              <a:rPr b="0" lang="pl-PL" sz="1200" spc="-1" strike="noStrike">
                <a:solidFill>
                  <a:srgbClr val="898989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41F5-258D-4546-809C-E5102D2585F9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Obraz 6" descr="NAGŁÓWEK Z BIAŁYMI PASKAMI.png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71960" y="2857320"/>
            <a:ext cx="45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1f497d"/>
                </a:solidFill>
                <a:latin typeface="Calibri"/>
              </a:rPr>
              <a:t>Oferta edukacyjna Wojewódzkiego</a:t>
            </a:r>
            <a:br>
              <a:rPr sz="2500"/>
            </a:br>
            <a:r>
              <a:rPr b="1" lang="pl-PL" sz="2500" spc="-1" strike="noStrike">
                <a:solidFill>
                  <a:srgbClr val="1f497d"/>
                </a:solidFill>
                <a:latin typeface="Calibri"/>
              </a:rPr>
              <a:t>Ośrodka Metodycznego </a:t>
            </a:r>
            <a:br>
              <a:rPr sz="2500"/>
            </a:br>
            <a:r>
              <a:rPr b="1" lang="pl-PL" sz="2500" spc="-1" strike="noStrike">
                <a:solidFill>
                  <a:srgbClr val="1f497d"/>
                </a:solidFill>
                <a:latin typeface="Calibri"/>
              </a:rPr>
              <a:t>w Gorzowie Wielkopolskim </a:t>
            </a:r>
            <a:br>
              <a:rPr sz="2500"/>
            </a:br>
            <a:r>
              <a:rPr b="1" lang="pl-PL" sz="2500" spc="-1" strike="noStrike">
                <a:solidFill>
                  <a:srgbClr val="1f497d"/>
                </a:solidFill>
                <a:latin typeface="Calibri"/>
              </a:rPr>
              <a:t>na rok szkolny 2021/2022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ymbol zastępczy numeru slajd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3241-E771-4E7B-B458-133FF9B8033B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ole tekstowe 3"/>
          <p:cNvSpPr/>
          <p:nvPr/>
        </p:nvSpPr>
        <p:spPr>
          <a:xfrm>
            <a:off x="857160" y="592920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66-400 Gorzów Wielkopolski, ul. Łokietka 23, </a:t>
            </a:r>
            <a:r>
              <a:rPr b="0" lang="pl-P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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95 721 61 -10, -11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-mail: wom@womgorz.edu.pl     www.womgorz.edu.p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Obraz 4" descr="Budynek1.jpg"/>
          <p:cNvPicPr/>
          <p:nvPr/>
        </p:nvPicPr>
        <p:blipFill>
          <a:blip r:embed="rId1"/>
          <a:stretch/>
        </p:blipFill>
        <p:spPr>
          <a:xfrm>
            <a:off x="685800" y="907920"/>
            <a:ext cx="308772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4f81bd"/>
                </a:solidFill>
                <a:latin typeface="Calibri"/>
              </a:rPr>
              <a:t>OFERTA SZKOLENIOWA DLA KADRY KIEROWNICZ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Calibri"/>
              </a:rPr>
              <a:t>W roku szk. 2021/2022 proponujemy m.in.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sparcie dyrektorów i wicedyrektorów w warunkach kształcenia na odległość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ntynuację szkoleń związanych ze zmianami w prawie oświatowym, w tym szkolenia w zakresie edukacji prawnej dyrektorów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ykl szkoleń związanych z oceną pracy i awansem zawodowym nauczycieli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oskonalenie w zakresie sprawowania nadzoru pedagogiczn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3274-55C1-46A4-A38B-19CF75E83CF6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4f81bd"/>
                </a:solidFill>
                <a:latin typeface="Calibri"/>
              </a:rPr>
              <a:t>Szkolenia online dla dyrektor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57200" y="1341360"/>
          <a:ext cx="8229600" cy="5199120"/>
        </p:xfrm>
        <a:graphic>
          <a:graphicData uri="http://schemas.openxmlformats.org/drawingml/2006/table">
            <a:tbl>
              <a:tblPr/>
              <a:tblGrid>
                <a:gridCol w="585720"/>
                <a:gridCol w="76438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p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tuł for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49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dania dyrektora szkoły w zakresie obowiązku prowadzenia Biuletynu Informacji Publicznej oraz dokonywania wydatków publiczny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9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dzór pedagogiczny po pandem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99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lanowanie działań w nadzorze pedagogiczny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0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awo w pracy dyrekt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cyzje administracyjne w szk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icedyrektor w szk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0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yrektor szkoły a organ prowadzą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82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440C-EA2E-437D-A9B1-EB1FB2FE6147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4f81bd"/>
                </a:solidFill>
                <a:latin typeface="Calibri"/>
              </a:rPr>
              <a:t>Szkolenia online dla dyrektor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57200" y="1600200"/>
          <a:ext cx="8229600" cy="3854520"/>
        </p:xfrm>
        <a:graphic>
          <a:graphicData uri="http://schemas.openxmlformats.org/drawingml/2006/table">
            <a:tbl>
              <a:tblPr/>
              <a:tblGrid>
                <a:gridCol w="585720"/>
                <a:gridCol w="76438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tuł for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09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dowanie czy odbudowanie partnerskiej współpracy z rodzicami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rządzanie czas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iem kompetencji kluczowych w praktyce szkolnej (II edycj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0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iekun stażu w procedurze awansu zawodowego (II edycj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yciel mianowany w drodze do dyplomowania (II edycj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-dyrektor, e-nauczyciel – budowanie wizerunku prowadzącego zajęcia online (II edycj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5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EE47-BEE0-4538-81B9-FB157D0A54ED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Kompleksowe wspomaganie szkół/placów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roku szkolnym 2021/2022  kontynuowany będzie proje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70c0"/>
                </a:solidFill>
                <a:latin typeface="Calibri"/>
              </a:rPr>
              <a:t>„</a:t>
            </a:r>
            <a:r>
              <a:rPr b="1" lang="pl-PL" sz="2400" spc="-1" strike="noStrike">
                <a:solidFill>
                  <a:srgbClr val="0070c0"/>
                </a:solidFill>
                <a:latin typeface="Calibri"/>
              </a:rPr>
              <a:t>Program wspomagania szkół i placówek województwa lubuskiego przez Wojewódzki Ośrodek Metodyczny </a:t>
            </a:r>
            <a:br>
              <a:rPr sz="2400"/>
            </a:br>
            <a:r>
              <a:rPr b="1" lang="pl-PL" sz="2400" spc="-1" strike="noStrike">
                <a:solidFill>
                  <a:srgbClr val="0070c0"/>
                </a:solidFill>
                <a:latin typeface="Calibri"/>
              </a:rPr>
              <a:t>w Gorzowie Wielkopolskim </a:t>
            </a:r>
            <a:br>
              <a:rPr sz="2400"/>
            </a:br>
            <a:r>
              <a:rPr b="1" lang="pl-PL" sz="2400" spc="-1" strike="noStrike">
                <a:solidFill>
                  <a:srgbClr val="0070c0"/>
                </a:solidFill>
                <a:latin typeface="Calibri"/>
              </a:rPr>
              <a:t>pt. „Połączmy siły”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ymbol zastępczy numeru slajd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65DC-770E-4E54-988B-91E634322774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pl-PL" sz="2400" spc="-1" strike="noStrike">
                <a:solidFill>
                  <a:srgbClr val="0070c0"/>
                </a:solidFill>
                <a:latin typeface="Calibri"/>
              </a:rPr>
              <a:t>Program wspomagania szkół i placówek </a:t>
            </a:r>
            <a:br>
              <a:rPr sz="2400"/>
            </a:br>
            <a:r>
              <a:rPr b="1" lang="pl-PL" sz="2400" spc="-1" strike="noStrike">
                <a:solidFill>
                  <a:srgbClr val="0070c0"/>
                </a:solidFill>
                <a:latin typeface="Calibri"/>
              </a:rPr>
              <a:t>województwa lubuskiego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dstawą realizacji programu jest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rozumienie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zawiera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ez WOM z przedszkolem/szkołą/placówk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asady realizacji Programu 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mieszczone są na stronie Ośrod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pl-PL" sz="2800" spc="-1" strike="noStrike">
                <a:solidFill>
                  <a:srgbClr val="0070c0"/>
                </a:solidFill>
                <a:latin typeface="Calibri"/>
              </a:rPr>
              <a:t>www.womgorz.edu.pl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kładka: Oferta szkoleń „WSPOMAGANIE SZKÓŁ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oordynator projektu: mgr Małgorzata J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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95 7216-122, tel. kom. 509-517-16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e-mail: malgorzata.jach@womgorz.edu.p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ymbol zastępczy numeru slajd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E2E0-9AC6-4592-9134-561E6060C182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Calibri"/>
              </a:rPr>
              <a:t>Sieci współpracy i samokształcenia </a:t>
            </a:r>
            <a:br>
              <a:rPr sz="2400"/>
            </a:br>
            <a:r>
              <a:rPr b="1" lang="pl-PL" sz="2400" spc="-1" strike="noStrike">
                <a:solidFill>
                  <a:srgbClr val="0070c0"/>
                </a:solidFill>
                <a:latin typeface="Calibri"/>
              </a:rPr>
              <a:t>formą wspomagania nauczycieli i dyrektor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elem funkcjonowania 22 sieci współpracy i samokształceni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la nauczycieli oraz  dyrektorów szkół i placówek jest doskonalenie ich  pracy, w szczególności poprzez wymianę doświadcze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ieci mają charakter przedmiotowy lub problemow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soby uczestniczące w sieciach współpracy i samokształcenia otrzymują zaświadczenia potwierdzające uczestnictw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5FF9-A17D-44B0-9C18-329C0E4FF1CD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-34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l-PL" sz="2400" spc="-1" strike="noStrike">
                <a:solidFill>
                  <a:srgbClr val="1f497d"/>
                </a:solidFill>
                <a:latin typeface="Calibri"/>
              </a:rPr>
              <a:t>Sieci współpracy i samokształcenia dyrektor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24000" y="1484280"/>
          <a:ext cx="8351640" cy="4538520"/>
        </p:xfrm>
        <a:graphic>
          <a:graphicData uri="http://schemas.openxmlformats.org/drawingml/2006/table">
            <a:tbl>
              <a:tblPr/>
              <a:tblGrid>
                <a:gridCol w="4599000"/>
                <a:gridCol w="3752640"/>
              </a:tblGrid>
              <a:tr h="576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E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RESAC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38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dyrektorów/wicedyrektorów szkół </a:t>
                      </a:r>
                      <a:br>
                        <a:rPr sz="2000"/>
                      </a:b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placówek oświatowych  (o krótkim staż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yrektorzy i wicedyrektorzy szkół </a:t>
                      </a:r>
                      <a:br>
                        <a:rPr sz="1600"/>
                      </a:b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placówek oświatowych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D. Janiszews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140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dyrektorów poradni psychologiczno-pedagogicznych –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yrektorzy i wicedyrektorzy </a:t>
                      </a:r>
                      <a:br>
                        <a:rPr sz="1600"/>
                      </a:b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adni  psychologiczno-pedagogiczny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L. Pyżyńs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122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dyrektorów i nauczycieli przedszkoli -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yrektorzy i nauczyciele przedszko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D. Turłaj, J. Talas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97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A020-2BAF-460E-B02A-824F639FB9AF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Calibri"/>
              </a:rPr>
              <a:t>Sieci współpracy i samokształcenia nauczycie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95280" y="1171440"/>
          <a:ext cx="8229600" cy="4583160"/>
        </p:xfrm>
        <a:graphic>
          <a:graphicData uri="http://schemas.openxmlformats.org/drawingml/2006/table">
            <a:tbl>
              <a:tblPr/>
              <a:tblGrid>
                <a:gridCol w="4897440"/>
                <a:gridCol w="3332160"/>
              </a:tblGrid>
              <a:tr h="387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E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RESA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3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„Narzędzia TIK wspomagające pracę nauczyciela” -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yciele wszystkich typów szkół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K. Tomic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pedagogów szkolnych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dagodzy szkolni wszystkich typów szkół 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placówek.  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B. Basiń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5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logopedów -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gopedzi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A. Spirydowicz-Kacper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9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nauczycieli wychowania do życia w rodzinie -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yciele  wychowania do życia w rodzinie wszystkich typów szkół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J. Krzewska-Gordzijew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2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nauczycieli edukacji wczesnoszkolnej -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yciele  edukacji wczesnoszkolnej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A. Domagał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nauczycieli </a:t>
                      </a:r>
                      <a:br>
                        <a:rPr sz="1700"/>
                      </a:b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 polskiego szkół podstawowych -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yciele  j. polskiego szkół podstawowych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B. Gizińska-Gigoł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0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nauczycieli </a:t>
                      </a:r>
                      <a:br>
                        <a:rPr sz="1700"/>
                      </a:b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. polskiego szkół ponadpodstawowych -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yciele  j. polskiego szkół ponadpodstawowych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M. Niewiadom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00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9855-7B93-4277-9FAE-CF97E7964376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Sieci współpracy i samokształcenia nauczyciel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95280" y="1341360"/>
          <a:ext cx="8353440" cy="4591080"/>
        </p:xfrm>
        <a:graphic>
          <a:graphicData uri="http://schemas.openxmlformats.org/drawingml/2006/table">
            <a:tbl>
              <a:tblPr/>
              <a:tblGrid>
                <a:gridCol w="4897440"/>
                <a:gridCol w="3456000"/>
              </a:tblGrid>
              <a:tr h="438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E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RESA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6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nauczycieli języków obcych 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„Dryle językowe: bank pomysłów i wspólny cel czyli efektywniejsze nauczanie gramatyki” </a:t>
                      </a: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yciele  języków obcych wszystkich typów szkół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U. Polań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6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nauczycieli języka niemieckiego -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yciele  j. niemieckiego wszystkich typów szkół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I. Trzaskow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7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nauczycieli historii </a:t>
                      </a:r>
                      <a:br>
                        <a:rPr sz="1700"/>
                      </a:b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WOS  szkół podstawowych -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yciele  historii i wos szkół podstawowych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J. Stępkow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29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nauczycieli historii </a:t>
                      </a:r>
                      <a:br>
                        <a:rPr sz="1700"/>
                      </a:b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WOS  szkół ponadpodstawowych -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yciele historii i wos  szkół ponadpodstawowych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J. Dutkiewic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0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 nauczycieli matematyki szkół podstawowych -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yciele matematyki  szkół  podstawowych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I. Jankowska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61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 nauczycieli matematyki szkół ponadpodstawowych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yciele matematyki szkół  ponadpodstawowych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D. Tomczak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3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67FF-41AE-4AC3-BF73-2D82E420B864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Calibri"/>
              </a:rPr>
              <a:t>Sieci współpracy i samokształcenia nauczycie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600200"/>
          <a:ext cx="8229600" cy="4397400"/>
        </p:xfrm>
        <a:graphic>
          <a:graphicData uri="http://schemas.openxmlformats.org/drawingml/2006/table">
            <a:tbl>
              <a:tblPr/>
              <a:tblGrid>
                <a:gridCol w="4330800"/>
                <a:gridCol w="3898800"/>
              </a:tblGrid>
              <a:tr h="37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E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RESA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6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nauczycieli biologii szkół podstawowych -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yciele  biologii szkół  podstawowych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A. Duszka-Sonde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6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nauczycieli  fizyki  wszystkich typów szkó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yciele  fizyki wszystkich typów szkó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Z. Łucz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nauczycieli  geografii -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yciele geografii wszystkich typów szkó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R. Jaroszewic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5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</a:t>
                      </a:r>
                      <a:br>
                        <a:rPr sz="1700"/>
                      </a:b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radców zawodowych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radcy zawodowi oraz nauczyciele prowadzący 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jęcia doradztwa zawodowego. 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B. Matus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6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nauczycieli kształcenia zawodowego –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yciele kształcenia zawodowego wszystkich typów szkół. 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S. Pawlaczy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1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ć współpracy i samokształcenia bibliotekarzy szkolnych-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ynu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yciele bibliotekarze wszystkich typów szkół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ordynator: M. Janas, M. Markowsk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6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DA24-CA71-4C75-B75F-612B1E6A6724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pl-PL" sz="2800" spc="-1" strike="noStrike">
                <a:solidFill>
                  <a:srgbClr val="376092"/>
                </a:solidFill>
                <a:latin typeface="Calibri"/>
              </a:rPr>
              <a:t>Oferta szkoleń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ferta szkoleń na rok szkolny 2021/2022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publikowana jest na stronie WOM-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https://womgorz.edu.pl/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apraszamy nauczycieli i kadrę kierowniczą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 korzystania z naszych zasobów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raz usług zarówno w siedzibie WOM-u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 Biblioteki Pedagogicznej, 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ak również z usług świadczonych onli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A876-DE6B-4C37-BF2D-28BB994F5342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pl-PL" sz="2400" spc="-1" strike="noStrike">
                <a:solidFill>
                  <a:srgbClr val="4f81bd"/>
                </a:solidFill>
                <a:latin typeface="Calibri"/>
              </a:rPr>
              <a:t>Szkolenia rad pedagogicznych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ferta na rok szk. 2021/2022 zawiera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36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ematów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adresowana jest do wszystkich typów szkół i placówe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szystkie szkolenia planowane są do realizacji zarówno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 formie stacjonarnej jak i online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ematyka szkoleń uwzględnia podstawowe kierunki polityki oświatowej państwa, wnioski z nadzoru pedagogicznego sprawowanego przez LKO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raz wyniki egzaminów zewnętrznych szkół lubuski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Calibri"/>
              </a:rPr>
              <a:t>Dyrektorów szkół i placówek</a:t>
            </a:r>
            <a:br>
              <a:rPr sz="2400"/>
            </a:br>
            <a:r>
              <a:rPr b="1" lang="pl-PL" sz="2400" spc="-1" strike="noStrike">
                <a:solidFill>
                  <a:srgbClr val="1f497d"/>
                </a:solidFill>
                <a:latin typeface="Calibri"/>
              </a:rPr>
              <a:t>zachęcamy do zamawiania szkoleń z oferty WOM-u,</a:t>
            </a:r>
            <a:br>
              <a:rPr sz="2400"/>
            </a:br>
            <a:r>
              <a:rPr b="1" lang="pl-PL" sz="2400" spc="-1" strike="noStrike">
                <a:solidFill>
                  <a:srgbClr val="1f497d"/>
                </a:solidFill>
                <a:latin typeface="Calibri"/>
              </a:rPr>
              <a:t> ale także tematów własnych  - spoza naszej ofer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ymbol zastępczy numeru slajd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34F7-B4D0-4F5E-99D8-81692300BB45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l-PL" sz="2400" spc="-1" strike="noStrike">
                <a:solidFill>
                  <a:srgbClr val="1f497d"/>
                </a:solidFill>
                <a:latin typeface="Calibri"/>
              </a:rPr>
              <a:t>Szkolenia rad pedagogicznych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95280" y="1052640"/>
          <a:ext cx="8497800" cy="4846680"/>
        </p:xfrm>
        <a:graphic>
          <a:graphicData uri="http://schemas.openxmlformats.org/drawingml/2006/table">
            <a:tbl>
              <a:tblPr/>
              <a:tblGrid>
                <a:gridCol w="647640"/>
                <a:gridCol w="7850160"/>
              </a:tblGrid>
              <a:tr h="463320"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p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ferta tematów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360360"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3560" rIns="43560" tIns="28080" bIns="28080" anchor="ctr">
                      <a:noAutofit/>
                    </a:bodyPr>
                    <a:p>
                      <a:pPr>
                        <a:lnSpc>
                          <a:spcPts val="1049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wo oświatowe w pracy  nauczyciela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6600"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28080" bIns="28080" anchor="ctr">
                      <a:noAutofit/>
                    </a:bodyPr>
                    <a:p>
                      <a:pPr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ziałania innowacyjne w przedszkolu/szko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6520"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ologie cyfrowe w szkole po pandemi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0880"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rzędzia internetowe w pracy nauczyciel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680"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3560" rIns="43560" tIns="28080" bIns="2808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zpieczeństwo dzieci i młodzieży w cyberprzestrzen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6680"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560" rIns="43560" tIns="28080" bIns="2808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noholizm wśród dzieci i młodzieży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21600" bIns="21600" anchor="ctr">
                      <a:noAutofit/>
                    </a:bodyPr>
                    <a:p>
                      <a:pPr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sztat metodyczny nauczyciela przedszkola – organizacja prac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5520"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21600" bIns="21600" anchor="ctr">
                      <a:noAutofit/>
                    </a:bodyPr>
                    <a:p>
                      <a:pPr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sztat metodyczny nauczyciela przedszkola – planowanie i dokumentowanie prac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60"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21600" bIns="21600" anchor="ctr">
                      <a:noAutofit/>
                    </a:bodyPr>
                    <a:p>
                      <a:pPr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sztat metodyczny nauczyciela przedszkola – kształtowanie kompetencji kluczowych przedszkolaka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8440"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sztat metodyczny nauczyciela przedszkola  - konstruowanie scenariuszy zajęć i sytuacji edukacyjnych w przedszkolu  (szkolenie z możliwością udziału rodziców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2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27E1-96C1-4B11-AFA1-0CCD8021B2FE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Szkolenia rad pedagogicznych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39640" y="982800"/>
          <a:ext cx="8280360" cy="5254560"/>
        </p:xfrm>
        <a:graphic>
          <a:graphicData uri="http://schemas.openxmlformats.org/drawingml/2006/table">
            <a:tbl>
              <a:tblPr/>
              <a:tblGrid>
                <a:gridCol w="647640"/>
                <a:gridCol w="7632720"/>
              </a:tblGrid>
              <a:tr h="49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ferta temató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506520">
                <a:tc>
                  <a:txBody>
                    <a:bodyPr lIns="43560" rIns="43560" tIns="28080" bIns="2808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560" marR="435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zyczyny agresywnych zachowań dziecka przedszkolnego.  Jak rozpoznać i pomóc?    </a:t>
                      </a:r>
                      <a:br>
                        <a:rPr sz="16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szkolenie z możliwością udziału rodziców)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8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k wspierać ucznia z zespołem Aspergera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21600" bIns="21600" anchor="ctr">
                      <a:noAutofit/>
                    </a:bodyPr>
                    <a:p>
                      <a:pPr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k rozpoznawać i zaspokajać potrzeby psychofizyczne uczniów wpływające na jakość </a:t>
                      </a:r>
                      <a:br>
                        <a:rPr sz="1600"/>
                      </a:b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h zdrowia psychicznego?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8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21600" bIns="21600" anchor="ctr">
                      <a:noAutofit/>
                    </a:bodyPr>
                    <a:p>
                      <a:pPr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k przeciwdziałać przemocy rówieśniczej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8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21600" bIns="21600" anchor="ctr">
                      <a:noAutofit/>
                    </a:bodyPr>
                    <a:p>
                      <a:pPr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 pustego i Salomon nie naleje. Jak znaleźć siłę i motywację do pracy z ucznia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pandemii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21600" bIns="21600" anchor="ctr">
                      <a:noAutofit/>
                    </a:bodyPr>
                    <a:p>
                      <a:pPr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zkoła dobrych relacji. Jak budować klimat po okresie dezintegracji oraz izolacji społecznej uczniów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8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21600" bIns="21600" anchor="ctr">
                      <a:noAutofit/>
                    </a:bodyPr>
                    <a:p>
                      <a:pPr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k rozmawiać z dzieckiem/uczniem w sytuacji trudnej i kryzysowej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6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21600" bIns="21600" anchor="ctr">
                      <a:noAutofit/>
                    </a:bodyPr>
                    <a:p>
                      <a:pPr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k szkoła/przedszkole może stać się placówką promującą zdrowi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21600" bIns="21600" anchor="ctr">
                      <a:noAutofit/>
                    </a:bodyPr>
                    <a:p>
                      <a:pPr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ki pracy lekcyjnej wspierające uczniów w uczeniu się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15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C44E-7900-484B-9A77-429E48761679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Szkolenia rad pedagogicz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246320"/>
          <a:ext cx="8218440" cy="4911480"/>
        </p:xfrm>
        <a:graphic>
          <a:graphicData uri="http://schemas.openxmlformats.org/drawingml/2006/table">
            <a:tbl>
              <a:tblPr/>
              <a:tblGrid>
                <a:gridCol w="658800"/>
                <a:gridCol w="7559640"/>
              </a:tblGrid>
              <a:tr h="554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ferta temat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576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21600" bIns="21600" anchor="ctr">
                      <a:noAutofit/>
                    </a:bodyPr>
                    <a:p>
                      <a:pPr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k podnieść wynik na  egzaminie ósmoklasisty? Rekomendacje na podstawie analizy wyników kolejnego egzamin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21600" bIns="21600" anchor="ctr">
                      <a:noAutofit/>
                    </a:bodyPr>
                    <a:p>
                      <a:pPr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 co warto zwrócić uwagę, analizując wynik swojej szkoły uzyskany na egzaminie ósmoklasisty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1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ura w 2023 roku – informacje dla rady pedagogicznej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5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k uczyć jeszcze lepiej? Metody i techniki uczenia się przyjazne mózgow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6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tywowanie uczniów do nauki w szkole XXI wieku w świetle osiągnięć neurodydaktyk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6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ndywidualizowana ścieżka kształcenia, nauczanie indywidualne i nauczanie domowe – zadania szkoły oraz obowiązki i dylematy nauczycieli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5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k rozwijać kompetencje kluczowe na przykładzie języka polskiego, historii, wiedz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społeczeństwie i lekcji wychowawczych 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6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k rozwijać kompetencje kluczowe w szkole podstawowej na przykładzie języków obcy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8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BD98-0058-4F12-A436-994EF08FEC32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Szkolenia rad pedagogicz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8360" y="1128600"/>
          <a:ext cx="8229600" cy="5540400"/>
        </p:xfrm>
        <a:graphic>
          <a:graphicData uri="http://schemas.openxmlformats.org/drawingml/2006/table">
            <a:tbl>
              <a:tblPr/>
              <a:tblGrid>
                <a:gridCol w="585720"/>
                <a:gridCol w="76438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ferta temat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596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k rozwijać kompetencje kluczowe w szkole podstawowej na przykładzie matematyki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przedmiotów przyrodniczy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5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ślenie krytyczne – kompetencja XXI wiek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6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tywowanie uczniów do uczenia się w kontekście ich przyszłych decyzji edukacyjno-zawodowy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5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e ma edukacji bez dobrych relacji – wprowadzenie do metody tutoringu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kcje wychowawcze online – budowanie relacji w czasach zdalnej edukacji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2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aching w rozwiązywaniu problemów wychowawczych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6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pbook zamiast „kopiuj wklej”. Propozycja metodyczna na lekcje różnych przedmiotów </a:t>
                      </a:r>
                      <a:br>
                        <a:rPr sz="1600"/>
                      </a:b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szkole podstawowej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9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lory edukacyjne wycieczek po województwie lubuskim – organizacja warsztatów terenowy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2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czanie hybrydowe i e-learning po pandemii – szansa na nową jakość edukacji czy obciążeni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21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98E1-7099-4B46-BC68-EBF0EA53E0D5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Warsztaty w szk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ferta szkoleń warsztatowych proponowanych do realizacji w siedzibach szkół 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ejmuje </a:t>
            </a:r>
            <a:r>
              <a:rPr b="1" lang="pl-PL" sz="2800" spc="-1" strike="noStrike">
                <a:solidFill>
                  <a:srgbClr val="376092"/>
                </a:solidFill>
                <a:latin typeface="Calibri"/>
              </a:rPr>
              <a:t>22 tematy,</a:t>
            </a:r>
            <a:br>
              <a:rPr sz="2800"/>
            </a:br>
            <a:r>
              <a:rPr b="1" lang="pl-PL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oponowane do realizacji </a:t>
            </a:r>
            <a:br>
              <a:rPr sz="2800"/>
            </a:br>
            <a:r>
              <a:rPr b="1" lang="pl-PL" sz="2800" spc="-1" strike="noStrike">
                <a:solidFill>
                  <a:srgbClr val="376092"/>
                </a:solidFill>
                <a:latin typeface="Calibri"/>
              </a:rPr>
              <a:t>tylko w formie stacjonarnej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ą to szkolenia dla grup liczących do 15 uczestników </a:t>
            </a:r>
            <a:br>
              <a:rPr sz="28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(w przypadku szkoleń informatycznych – liczba uczestników powinna odpowiadać liczbie stanowisk komputerowych).</a:t>
            </a: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1f497d"/>
                </a:solidFill>
                <a:latin typeface="Calibri"/>
              </a:rPr>
              <a:t> Przyjmowane są również zamówienia na tematy spoza ofer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ymbol zastępczy numeru slajd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D0DF-CB38-4C01-89FE-8C363D52FEFE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7375e"/>
                </a:solidFill>
                <a:latin typeface="Calibri"/>
              </a:rPr>
              <a:t>Warsztaty w szk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24000" y="1341360"/>
          <a:ext cx="8135640" cy="5097600"/>
        </p:xfrm>
        <a:graphic>
          <a:graphicData uri="http://schemas.openxmlformats.org/drawingml/2006/table">
            <a:tbl>
              <a:tblPr/>
              <a:tblGrid>
                <a:gridCol w="471240"/>
                <a:gridCol w="7664400"/>
              </a:tblGrid>
              <a:tr h="286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t szkole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388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36360" bIns="36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84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owanie dla najmłodszych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8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36360" bIns="36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84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orzenie interaktywnych gier i zabaw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98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36360" bIns="36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stosowanie narzędzi cyfrowych na lekcjach różnych przedmiotów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8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36360" bIns="36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84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woczesna edukacja z tablicą interaktywną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36360" bIns="36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84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stosowanie interaktywnych narzędzi w nauczani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8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36360" bIns="36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84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kacja zdalna z MicrosoftTeams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58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25560" bIns="255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woczesne narzędzia cyfrowe wspomagające dydaktykę w szkole/placówc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22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25560" bIns="255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cę świadomie wspierać rozwój swojego dziecka – warsztat uważnego rodzica (możliwość udziału rodziców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15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25560" bIns="255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ca nauczyciela przedszkola z zastosowaniem „Arkusza rozwoju dziecka w wieku od 3 do 6 lat – obserwacje pedagogiczne i diagnoza przedszkolna”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8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25560" bIns="2556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y rozwijające pamięć i myślenie dzieci w wieku przedszkolny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7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324E-3712-47B6-8D3E-74396FDFAA63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Warsztaty w szk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341360"/>
          <a:ext cx="8229600" cy="4330800"/>
        </p:xfrm>
        <a:graphic>
          <a:graphicData uri="http://schemas.openxmlformats.org/drawingml/2006/table">
            <a:tbl>
              <a:tblPr/>
              <a:tblGrid>
                <a:gridCol w="514440"/>
                <a:gridCol w="7715160"/>
              </a:tblGrid>
              <a:tr h="316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t szkole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439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sady, konsekwencje i normy współżycia w grupie przedszkolnej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4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konomia w przedszkolu – „ABC ekonomii czyli pierwsze kroki w świecie finansów”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patia w przedszkolu – „ABC empatii, bo wszyscy jesteśmy tacy sami”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66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poszukiwaniu ciszy – ćwiczenia pomagające dziecku przedszkolnemu odnaleźć spokój i rozwinąć uważność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6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„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wyczajnie towarzyskie zamiast specjalnej troski” – jak wspierać uczniów </a:t>
                      </a:r>
                      <a:br>
                        <a:rPr sz="1800"/>
                      </a:b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 niepełnosprawnością intelektualną w sytuacjach trudnych i nietypowych”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5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ternatywna rzeczywistość sensoryczna dzieci ze spektrum autyzm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25560" bIns="255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toring w szko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25560" bIns="255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tywowanie uczniów do nauk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0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A316-77AC-4222-8C29-22324218EC68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Warsztaty w szk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600200"/>
          <a:ext cx="8229600" cy="3311640"/>
        </p:xfrm>
        <a:graphic>
          <a:graphicData uri="http://schemas.openxmlformats.org/drawingml/2006/table">
            <a:tbl>
              <a:tblPr/>
              <a:tblGrid>
                <a:gridCol w="658800"/>
                <a:gridCol w="7570800"/>
              </a:tblGrid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p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t szkol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4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„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cz się z zapałem!”  Techniki efektywnego nauczania w procesie lekcyjny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5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zykłady dobrych praktyk nauczania zdalnego – co i dlaczego warto wykorzystać po powrocie do szkół?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4280" rIns="44280" tIns="17640" bIns="17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„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asa różnych prędkości”  –  jak indywidualizować pracę uczniów, wspierać ich autonomię i motywację do nauki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k rozwijać muzyczny potencjał małego dziecka w wieku 0-6 lat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3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17DF-8708-4B43-BE63-1F86FECB0020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Calibri"/>
              </a:rPr>
              <a:t>Konferencje problemow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ematyka konferencji problemowych  w roku szk. 2021/22 wynikać będzie ze zmian w systemie edukacji oraz z kierunków polityki oświatowej państwa a także z potrzeb zgłaszanych przez nauczycieli i dyrektorów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zkół i placów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Plan szczegółowy konferencji problemowych zostanie opublikowan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na stronie internetowej WOM-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OM będzie także współorganizatorem konferencji organizowanych przez Akademię im. Jakuba z Paradyża w Gorzowie Wielkopolski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ymbol zastępczy numeru slajd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F09F-058E-434C-BED5-DD99336035EF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76092"/>
                </a:solidFill>
                <a:latin typeface="Calibri"/>
              </a:rPr>
              <a:t>Działalność szkoleniowa Ośrod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e względu na utrzymujący się stan pandemii oferta szkoleniowa zawiera podwójny katalog:  </a:t>
            </a:r>
            <a:br>
              <a:rPr sz="2800"/>
            </a:br>
            <a:r>
              <a:rPr b="1" lang="pl-PL" sz="2800" spc="-1" strike="noStrike" u="sng">
                <a:solidFill>
                  <a:srgbClr val="000000"/>
                </a:solidFill>
                <a:uFillTx/>
                <a:latin typeface="Calibri"/>
              </a:rPr>
              <a:t>szkoleń stacjonarnych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raz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800" spc="-1" strike="noStrike" u="sng">
                <a:solidFill>
                  <a:srgbClr val="000000"/>
                </a:solidFill>
                <a:uFillTx/>
                <a:latin typeface="Calibri"/>
              </a:rPr>
              <a:t>szkoleń onli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roku szkolnym 2021/2022 oferujemy nauczycielom i kadrze zarządzającej 550 różnego rodzaju szkoleń: kursów, warsztatów, seminariów, szkoleń rad pedagogicznych, warsztatów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szkole, konferencji, sieci współprac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 samokształcenia, w tym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336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 w formie stacjonarnej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i 214   w formie on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9CEC-12C3-4B21-B505-4B4168F6B361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76092"/>
                </a:solidFill>
                <a:latin typeface="Calibri"/>
              </a:rPr>
              <a:t>Konferencje przedmiotowo-metodycz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Calibri"/>
              </a:rPr>
              <a:t>Konferencje przedmiotowo-metodyczne organizowane są </a:t>
            </a:r>
            <a:br>
              <a:rPr sz="2300"/>
            </a:br>
            <a:r>
              <a:rPr b="0" lang="pl-PL" sz="2300" spc="-1" strike="noStrike">
                <a:solidFill>
                  <a:srgbClr val="000000"/>
                </a:solidFill>
                <a:latin typeface="Calibri"/>
              </a:rPr>
              <a:t>co roku w ostatnim tygodniu sierpnia i adresowane </a:t>
            </a:r>
            <a:br>
              <a:rPr sz="2300"/>
            </a:br>
            <a:r>
              <a:rPr b="0" lang="pl-PL" sz="2300" spc="-1" strike="noStrike">
                <a:solidFill>
                  <a:srgbClr val="000000"/>
                </a:solidFill>
                <a:latin typeface="Calibri"/>
              </a:rPr>
              <a:t>do nauczycieli wszystkich przedmiotów i specjalności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300" spc="-1" strike="noStrike">
                <a:solidFill>
                  <a:srgbClr val="376092"/>
                </a:solidFill>
                <a:latin typeface="Calibri"/>
              </a:rPr>
              <a:t>W okresie od 23 sierpnia do 7 września 2021 r. odbędą się konferencje inaugurujące nowy rok szkolny 2021/2022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300" spc="-1" strike="noStrike">
                <a:solidFill>
                  <a:srgbClr val="376092"/>
                </a:solidFill>
                <a:latin typeface="Calibri"/>
              </a:rPr>
              <a:t>Spośród  27 konferencji przedmiotowo-metodycznych </a:t>
            </a:r>
            <a:br>
              <a:rPr sz="2300"/>
            </a:br>
            <a:r>
              <a:rPr b="1" lang="pl-PL" sz="2300" spc="-1" strike="noStrike">
                <a:solidFill>
                  <a:srgbClr val="376092"/>
                </a:solidFill>
                <a:latin typeface="Calibri"/>
              </a:rPr>
              <a:t>25 odbędzie się w formie online.</a:t>
            </a:r>
            <a:r>
              <a:rPr b="0" lang="pl-PL" sz="23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300"/>
            </a:br>
            <a:r>
              <a:rPr b="0" lang="pl-PL" sz="2300" spc="-1" strike="noStrike">
                <a:solidFill>
                  <a:srgbClr val="000000"/>
                </a:solidFill>
                <a:latin typeface="Calibri"/>
              </a:rPr>
              <a:t>Natomiast w sierpniu 2022 r. przewiduje się organizację 27 konferencji przedmiotowo-metodycznych, </a:t>
            </a:r>
            <a:br>
              <a:rPr sz="2300"/>
            </a:br>
            <a:r>
              <a:rPr b="0" lang="pl-PL" sz="2300" spc="-1" strike="noStrike">
                <a:solidFill>
                  <a:srgbClr val="000000"/>
                </a:solidFill>
                <a:latin typeface="Calibri"/>
              </a:rPr>
              <a:t>w tym 16 w formie onlin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300" spc="-1" strike="noStrike">
                <a:solidFill>
                  <a:srgbClr val="376092"/>
                </a:solidFill>
                <a:latin typeface="Calibri"/>
              </a:rPr>
              <a:t>Zapraszamy nauczycieli do udziału. Szczegółowy harmonogram zamieszczony jest na stronie internetowej WOM-u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93DD-47BB-4438-8A10-138462222266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Kursy nadające uprawnienia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Calibri"/>
              </a:rPr>
              <a:t>Kurs na kierownika wypoczynku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10 godz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70c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Calibri"/>
              </a:rPr>
              <a:t>Kurs na wychowawcę wypoczynku</a:t>
            </a:r>
            <a:r>
              <a:rPr b="0" lang="pl-PL" sz="24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(36 godz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70c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Calibri"/>
              </a:rPr>
              <a:t>Kurs  na kierownika wycieczek szkolnych</a:t>
            </a:r>
            <a:r>
              <a:rPr b="0" lang="pl-PL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(12 godz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70c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Calibri"/>
              </a:rPr>
              <a:t>Kurs przygotowujący nauczycieli do prowadzenia zajęć edukacyjnych w zakresie udzielania pierwszej pomoc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(30 godz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nformacji szczegółowych udziela Biuro Obsługi Szkoleń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kierownicy poszczególnych kurs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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95 -721-61-14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ymbol zastępczy numeru slajd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46DA-46BE-4DDD-A88E-A34A25051483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28760" y="1125000"/>
            <a:ext cx="822960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W  roku szkolnym 2021/2022 WOM  proponuje </a:t>
            </a:r>
            <a:br>
              <a:rPr sz="2000"/>
            </a:b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studia podyplomowe </a:t>
            </a:r>
            <a:br>
              <a:rPr sz="2000"/>
            </a:b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na podstawie porozumienia </a:t>
            </a:r>
            <a:br>
              <a:rPr sz="2000"/>
            </a:b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z Akademią im. Jakuba  z Paradyża </a:t>
            </a:r>
            <a:br>
              <a:rPr sz="2000"/>
            </a:b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w Gorzowie Wielkopolskim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arządzanie oświatą </a:t>
            </a:r>
            <a:br>
              <a:rPr sz="2400"/>
            </a:br>
            <a:r>
              <a:rPr b="0" lang="pl-PL" sz="1700" spc="-1" strike="noStrike">
                <a:solidFill>
                  <a:srgbClr val="000000"/>
                </a:solidFill>
                <a:latin typeface="Calibri"/>
              </a:rPr>
              <a:t>(250 godz. w tym 30 godz. praktyki kierowniczej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Informacji szczegółowych udziela Biuro Obsługi Szkoleń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e-mail: 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Calibri"/>
              </a:rPr>
              <a:t>bos.katarzyna.szczepaniak@womgorz.edu.p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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95 -721-61-14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ymbol zastępczy numeru slajd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E59B-4D47-4802-8070-941F33F55929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Calibri"/>
              </a:rPr>
              <a:t>PARTNERSTWO W PROJEKTACH  UNIJN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W roku szkolnym 2021/2022 WOM będzie kontynuował realizację zadań jako partner nw. projektów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i="1" lang="pl-PL" sz="1600" spc="-1" strike="noStrike">
                <a:solidFill>
                  <a:srgbClr val="000000"/>
                </a:solidFill>
                <a:latin typeface="Calibri"/>
              </a:rPr>
              <a:t>Modernizacja kształcenia zawodowego w Powiecie Strzelecko-Drezdeneckim</a:t>
            </a:r>
            <a:r>
              <a:rPr b="0" i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rojekt realizowany w ramach RPO Lubuskie 2020, Oś 8 „Nowoczesna edukacja”, Działanie 8.4 „Doskonalenie jakości kształcenia zawodowego”, Poddziałania 8.4.1 „Doskonalenie jakości kształcenia zawodowego, projekty realizowane poza formułą ZIT”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1f497d"/>
                </a:solidFill>
                <a:latin typeface="Calibri"/>
              </a:rPr>
              <a:t>Termin realizacji projektu:  wrzesień 2016 – czerwiec 2022 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i="1" lang="pl-PL" sz="1600" spc="-1" strike="noStrike">
                <a:solidFill>
                  <a:srgbClr val="000000"/>
                </a:solidFill>
                <a:latin typeface="Calibri"/>
              </a:rPr>
              <a:t>Modernizacja kształcenia zawodowego w Powiecie Żarskim</a:t>
            </a:r>
            <a:r>
              <a:rPr b="0" i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rojekt realizo­wany w  ramach RPO Lubuskie 2020, Oś 8 „Nowoczesna edukacja”, Działanie 8.4 „Doskonalenie jakości kształcenia zawodowego”, Poddziałania 8.4.1 „Doskonalenie jakości kształcenia zawodowego, projekty realizowane poza formułą ZIT”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1f497d"/>
                </a:solidFill>
                <a:latin typeface="Calibri"/>
              </a:rPr>
              <a:t>Termin realizacji projektu:  wrzesień 2016 – czerwiec 2022 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1" i="1" lang="pl-PL" sz="1600" spc="-1" strike="noStrike">
                <a:solidFill>
                  <a:srgbClr val="000000"/>
                </a:solidFill>
                <a:latin typeface="Calibri"/>
              </a:rPr>
              <a:t>Szkoła  ćwiczeń w Gorzowie Wielkopolskim 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– w ramach POWER 2014-2020, Oś Priorytetowa  II „Efektywne polityki publiczne dla rynku pracy, gospodarki i edukacji”, Działanie 2.10. „Wysoka jakość systemu oświaty”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17375e"/>
                </a:solidFill>
                <a:latin typeface="Calibri"/>
              </a:rPr>
              <a:t>Termin</a:t>
            </a:r>
            <a:r>
              <a:rPr b="1" lang="pl-PL" sz="1400" spc="-1" strike="noStrike">
                <a:solidFill>
                  <a:srgbClr val="1f497d"/>
                </a:solidFill>
                <a:latin typeface="Calibri"/>
              </a:rPr>
              <a:t>  realizacji projektu:  2020 – 202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Liderem projektu jest Miasto  Gorzów Wielkopolski, a partnerami są: WOM Gorzów,</a:t>
            </a:r>
            <a:r>
              <a:rPr b="1" lang="pl-PL" sz="14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Akademia im. Jakuba 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z Paradyża w Gorzowie Wielkopolski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3656-2493-4D7D-9295-61D999F73671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Calibri"/>
              </a:rPr>
              <a:t>PARTNERSTWO W PROJEKTACH  UNIJN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1" i="1" lang="pl-PL" sz="1600" spc="-1" strike="noStrike">
                <a:solidFill>
                  <a:srgbClr val="000000"/>
                </a:solidFill>
                <a:latin typeface="Calibri"/>
              </a:rPr>
              <a:t>Bez granic: nauka – praca – życie. Orientacja zawodowa na pograniczu polsko-niemieckim    – rozwiązanie modelowe na przykładzie Euroregionu PRO EUROPA VIADRINA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ojekt przygotowany został wspólnie z Institut für Oekonomische Bildung z Oldenburga w ramach osi priorytetowej III Programu „Interreg Va Brandenburgia-Lubuskie 2014-2020”. Liderem projektu jest IHK Projekt­gesellschaft mbH Frankfurt/O (Niemcy), a WOM jest jedny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z siedmiu partnerów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Calibri"/>
              </a:rPr>
              <a:t>Termin realizacji projektu: 2018 -202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B1D4-2681-4840-834C-4000DD3B5178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66"/>
                </a:solidFill>
                <a:latin typeface="Calibri"/>
              </a:rPr>
              <a:t>Rejon OKE w WOM-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 podstawie porozumienia pomiędzy Dyrektorem WOM-u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a Dyrektorem OKE w Poznaniu w Wojewódzkim Ośrodku Metodycznym znajduje się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siedziba rejonu koordynacji egzaminów zewnętrznych dla szkół siedmiu północnych powiatów lubuski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spółpraca obejmuje działalność informacyjną, szkoleniową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organizacyjn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3B98-6A69-4FF4-A1D4-E88DA2E624B3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Biblioteka Pedagogiczna WOM-u</a:t>
            </a:r>
            <a:br>
              <a:rPr sz="3600"/>
            </a:b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ul. Łokietka 20A, </a:t>
            </a:r>
            <a:r>
              <a:rPr b="0" lang="pl-P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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(95) 721-61-40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Symbol zastępczy zawartości 4" descr="BIBLIOT.jpg"/>
          <p:cNvPicPr/>
          <p:nvPr/>
        </p:nvPicPr>
        <p:blipFill>
          <a:blip r:embed="rId1"/>
          <a:stretch/>
        </p:blipFill>
        <p:spPr>
          <a:xfrm>
            <a:off x="682560" y="1700280"/>
            <a:ext cx="3353040" cy="4524480"/>
          </a:xfrm>
          <a:prstGeom prst="rect">
            <a:avLst/>
          </a:prstGeom>
          <a:ln w="0">
            <a:noFill/>
          </a:ln>
        </p:spPr>
      </p:pic>
      <p:sp>
        <p:nvSpPr>
          <p:cNvPr id="156" name="Symbol zastępczy numeru slajd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A165-8294-443B-A123-058BF44467B5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ole tekstowe 5"/>
          <p:cNvSpPr/>
          <p:nvPr/>
        </p:nvSpPr>
        <p:spPr>
          <a:xfrm>
            <a:off x="4067280" y="1989000"/>
            <a:ext cx="4825800" cy="54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480" indent="-87480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1f497d"/>
                </a:solidFill>
                <a:latin typeface="Calibri"/>
              </a:rPr>
              <a:t>Organizuje i prowadzi wspomaganie: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- szkół i placówek w realizacji zadań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 dydaktycznych, wychowawcz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 i opiekuńczych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- bibliotek szkoln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1f497d"/>
                </a:solidFill>
                <a:latin typeface="Calibri"/>
              </a:rPr>
              <a:t>Organizuje i prowadzi sieci współpracy</a:t>
            </a:r>
            <a:br>
              <a:rPr sz="1800"/>
            </a:br>
            <a:r>
              <a:rPr b="1" lang="pl-PL" sz="1800" spc="-1" strike="noStrike">
                <a:solidFill>
                  <a:srgbClr val="1f497d"/>
                </a:solidFill>
                <a:latin typeface="Calibri"/>
              </a:rPr>
              <a:t>   i samokształcenia dla nauczyciel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76092"/>
                </a:solidFill>
                <a:latin typeface="Calibri"/>
              </a:rPr>
              <a:t>Proponu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ogaty wybór zajęć edukacyjnych, lekcji bibliotecznych  (realizacja w BP lub szko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7375e"/>
                </a:solidFill>
                <a:latin typeface="Calibri"/>
              </a:rPr>
              <a:t>Zaprasza do Galerii „Na mansardzi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 obejrzenia interesujących wyst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prezentowania dorobku artystycznego swoich uczniów, nauczycie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-154800" y="44280"/>
            <a:ext cx="9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Biblioteka Pedagogiczna stanowi wojewódzkie multimedialne centrum informacji pedagogicznej oraz centrum zbiorów z zakresu pedagogiki, psychologii i nauk pokrewnyc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az 4" descr=""/>
          <p:cNvPicPr/>
          <p:nvPr/>
        </p:nvPicPr>
        <p:blipFill>
          <a:blip r:embed="rId2"/>
          <a:stretch/>
        </p:blipFill>
        <p:spPr>
          <a:xfrm>
            <a:off x="324000" y="554040"/>
            <a:ext cx="593640" cy="7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f497d"/>
                </a:solidFill>
                <a:latin typeface="Calibri"/>
              </a:rPr>
              <a:t>Zapraszamy Państwa do współpracy </a:t>
            </a:r>
            <a:br>
              <a:rPr sz="3200"/>
            </a:br>
            <a:r>
              <a:rPr b="1" lang="pl-PL" sz="3200" spc="-1" strike="noStrike">
                <a:solidFill>
                  <a:srgbClr val="1f497d"/>
                </a:solidFill>
                <a:latin typeface="Calibri"/>
              </a:rPr>
              <a:t>i korzystania z oferty WOM i BP</a:t>
            </a:r>
            <a:r>
              <a:rPr b="0" lang="pl-PL" sz="3200" spc="-1" strike="noStrike">
                <a:solidFill>
                  <a:srgbClr val="1f497d"/>
                </a:solidFill>
                <a:latin typeface="Calibri"/>
              </a:rPr>
              <a:t>	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Zgłoszenia na wszystkie formy doskonalenia organizowane przez W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M </a:t>
            </a:r>
            <a:br>
              <a:rPr sz="3200"/>
            </a:br>
            <a:r>
              <a:rPr b="0" lang="pl-PL" sz="3200" spc="-1" strike="noStrike">
                <a:solidFill>
                  <a:srgbClr val="1f497d"/>
                </a:solidFill>
                <a:latin typeface="Calibri"/>
              </a:rPr>
              <a:t>przyjmowane </a:t>
            </a:r>
            <a:br>
              <a:rPr sz="3200"/>
            </a:br>
            <a:r>
              <a:rPr b="0" lang="pl-PL" sz="3200" spc="-1" strike="noStrike">
                <a:solidFill>
                  <a:srgbClr val="1f497d"/>
                </a:solidFill>
                <a:latin typeface="Calibri"/>
              </a:rPr>
              <a:t>są</a:t>
            </a:r>
            <a:r>
              <a:rPr b="1" lang="pl-PL" sz="3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1f497d"/>
                </a:solidFill>
                <a:latin typeface="Calibri"/>
              </a:rPr>
              <a:t>drogą elektroniczną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za pośrednictwem strony internetowej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4f81bd"/>
                </a:solidFill>
                <a:latin typeface="Calibri"/>
              </a:rPr>
              <a:t>www.womgorz.edu.pl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ymbol zastępczy numeru slajd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896A-8052-4A7D-9A37-49E0A16B5A3D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nformacji na temat szkoleń udziel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Biuro Obsługi Szkole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el.: 95 721 61 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-mail: </a:t>
            </a:r>
            <a:br>
              <a:rPr sz="32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bos.katarzyna.szczepaniak@womgorz.edu.p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bos.anna.olejniczak@womgorz.edu.p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bos.katarzyna.burdzinska@womgorz.edu.p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ymbol zastępczy numeru slajd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CE97-23AC-4FBA-A3EE-7C1A2F07ADC5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70c0"/>
                </a:solidFill>
                <a:latin typeface="Calibri"/>
              </a:rPr>
              <a:t>Priorytety stałe w działalności szkoleniow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ierunki polityki oświatowej państw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nioski z nadzoru pedagogicznego sprawowanego    przez Lubuskiego Kuratora Oświa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yniki egzaminów zewnętrzny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23AE-08A3-41C5-BDD3-8440C4A4B35B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558ed5"/>
                </a:solidFill>
                <a:latin typeface="Calibri"/>
              </a:rPr>
              <a:t>Priorytet spowodowany pandemią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spomaganie psychopedagogiczne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uczycieli, uczniów i rodziców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1B54-D343-4B6E-91AB-0802E8AC0F48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76092"/>
                </a:solidFill>
                <a:latin typeface="Calibri"/>
              </a:rPr>
              <a:t>Oferta szkole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zupełniona jest  ofertą kursów nadających uprawnienia i studiów podyplomow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f497d"/>
                </a:solidFill>
                <a:latin typeface="Calibri"/>
              </a:rPr>
              <a:t>Zgłoszenia na wszystkie formy szkoleń</a:t>
            </a:r>
            <a:br>
              <a:rPr sz="3200"/>
            </a:br>
            <a:r>
              <a:rPr b="1" lang="pl-PL" sz="3200" spc="-1" strike="noStrike">
                <a:solidFill>
                  <a:srgbClr val="1f497d"/>
                </a:solidFill>
                <a:latin typeface="Calibri"/>
              </a:rPr>
              <a:t>prowadzone są </a:t>
            </a:r>
            <a:br>
              <a:rPr sz="3200"/>
            </a:br>
            <a:r>
              <a:rPr b="1" lang="pl-PL" sz="3200" spc="-1" strike="noStrike">
                <a:solidFill>
                  <a:srgbClr val="1f497d"/>
                </a:solidFill>
                <a:latin typeface="Calibri"/>
              </a:rPr>
              <a:t>w formie elektroniczne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EB5F-6473-4759-BD36-9D5CAA3E7728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76092"/>
                </a:solidFill>
                <a:latin typeface="Calibri"/>
              </a:rPr>
              <a:t>Oferta  szkoleń Ośrod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ferta WOM-u zawiera  następujące formy doskonaleni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274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warsztaty, seminaria, kursy doskonalące, w tym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89 on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22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tematy „warsztatów w szkol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tematów szkoleń rad pedagogicznych – wszystkie również w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formie on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27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konferencji przedmiotowo-metodycznych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(w tym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16 online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) oraz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4 kursy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adające uprawnienia i inne szkole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86DE-70AB-45D7-8967-921D061CB0E2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4f81bd"/>
                </a:solidFill>
                <a:latin typeface="Calibri"/>
              </a:rPr>
              <a:t>Organizacja Ośrod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adania statutowe realizują cztery Pracowni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Calibri"/>
              </a:rPr>
              <a:t>Zarządzania Oświat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Calibri"/>
              </a:rPr>
              <a:t>Psychoedukacji i Wychowani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Calibri"/>
              </a:rPr>
              <a:t>Doskonalenia Metodyczneg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Calibri"/>
              </a:rPr>
              <a:t>Technologii Informacyjnych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7375e"/>
                </a:solidFill>
                <a:latin typeface="Calibri"/>
              </a:rPr>
              <a:t>oraz  Biblioteka Pedagogicz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 algn="ctr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nadto w ramach sieci utworzonej przez Lubuskiego Kuratora Oświaty zadania doradcy metodycznego realizować będzie 17 nauczycieli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2741-7B56-4703-9C9A-E444FAC1F184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ZESPÓŁ  DORADCÓW  METODYCZ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ykaz doradców metodycznych zamieszczony je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a stronie internetowej Ośrodka w zakład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„</a:t>
            </a: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DORADZTWO METODYCZNE”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której znajdują się informacje dotyczące funkcjonowania doradców metodycznych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raz </a:t>
            </a: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„SERWISY DORADCÓW”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zawierające bogate materiały dla nauczyciel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6D0C-31D5-433B-A958-C070B90B75DF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09:55:47Z</dcterms:created>
  <dc:creator>Emil</dc:creator>
  <dc:description/>
  <dc:language>en-US</dc:language>
  <cp:lastModifiedBy>Wojewódzki Ośrodek Metodyczny</cp:lastModifiedBy>
  <cp:lastPrinted>2021-08-16T06:29:27Z</cp:lastPrinted>
  <dcterms:modified xsi:type="dcterms:W3CDTF">2021-08-16T10:26:25Z</dcterms:modified>
  <cp:revision>498</cp:revision>
  <dc:subject/>
  <dc:title>Slajd 1</dc:title>
</cp:coreProperties>
</file>