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86575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68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6880" cy="375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1600" cy="4508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00600" y="951840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10E3-A821-4A43-94D6-3E9BC6B85F5E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6880" cy="375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160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900600" y="951876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15F3-20BF-44D8-9797-7D0DF198B18E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116-CCD1-4C9E-86DB-9FBE0C85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A97-70F3-48AF-BAB3-AFF75782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001-7D61-40FE-A30B-6D39DA21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F68-7B0D-45A0-A518-AB3F7767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F46-E0EE-4592-84F0-FEDE1D02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8B0-4D34-4829-9BD2-53D3ED02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474-698C-4382-B57A-F8096C8E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20C-60D3-49AD-9329-73FA0C7F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08A-29B5-460F-B0A4-610FAE0F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964-9493-4ECC-9893-5AD3232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72D-C4D3-44CA-830F-503A505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7FD-9720-4F5D-8817-2132092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216-B104-41F9-A574-2699A325EEF7}" type="datetime">
              <a:rPr b="0" lang="pl-PL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285B-2AFD-4CA9-AB5F-E591DCC2F45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Obraz 6" descr="NAGŁÓWEK Z BIAŁYMI PASKAMI.png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mgorz.edu.p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omgorz.edu.pl/index.php?view=k&amp;lng=1&amp;k=12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mgorz.edu.pl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os.katarzyna.szczepaniak@womgorz.edu.pl" TargetMode="External"/><Relationship Id="rId2" Type="http://schemas.openxmlformats.org/officeDocument/2006/relationships/hyperlink" Target="mailto:bos.anna.olejniczak@womgorz.edu.pl" TargetMode="External"/><Relationship Id="rId3" Type="http://schemas.openxmlformats.org/officeDocument/2006/relationships/hyperlink" Target="mailto:bos.katarzyna.burdzinska@womgorz.edu.p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71960" y="285732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Oferta Wojewódzkiego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Ośrodka Metodycznego 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w Gorzowie Wlkp. -  publicznej placówki doskonalenia 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prowadzonej przez Samorząd Województwa Lubuskiego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na rok szk. 2017/2018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3"/>
          <p:cNvSpPr/>
          <p:nvPr/>
        </p:nvSpPr>
        <p:spPr>
          <a:xfrm>
            <a:off x="857160" y="59292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6-400 Gorzów Wielkopolski, ul. Łokietka 23, tel. (95) 7 216 110, -11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-mail: wom@womgorz.edu.pl *  www.womgorz.edu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az 4" descr="Budynek1.jpg"/>
          <p:cNvPicPr/>
          <p:nvPr/>
        </p:nvPicPr>
        <p:blipFill>
          <a:blip r:embed="rId1"/>
          <a:stretch/>
        </p:blipFill>
        <p:spPr>
          <a:xfrm>
            <a:off x="685800" y="907920"/>
            <a:ext cx="3087720" cy="4695840"/>
          </a:xfrm>
          <a:prstGeom prst="rect">
            <a:avLst/>
          </a:prstGeom>
          <a:ln w="0">
            <a:noFill/>
          </a:ln>
        </p:spPr>
      </p:pic>
      <p:sp>
        <p:nvSpPr>
          <p:cNvPr id="52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5A2C-081C-49AB-9375-83CB3C08164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Program</a:t>
            </a:r>
            <a:r>
              <a:rPr b="1" i="1" lang="pl-PL" sz="2800" spc="-1" strike="noStrike">
                <a:solidFill>
                  <a:srgbClr val="1f497d"/>
                </a:solidFill>
                <a:latin typeface="Calibri"/>
              </a:rPr>
              <a:t> „P o ł ą c z m y   s i ł y” </a:t>
            </a:r>
            <a:r>
              <a:rPr b="1" lang="pl-PL" sz="2800" spc="-1" strike="noStrike">
                <a:solidFill>
                  <a:srgbClr val="17375e"/>
                </a:solidFill>
                <a:latin typeface="Calibri"/>
              </a:rPr>
              <a:t>- sposoby realizacji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diagnozowanie potrzeb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koły/placówki, m.in. w toku spotkania przedstawiciela Ośrodka z dyrektorem szkoły/placówki oraz warsztatowego spotkania z radą pedagogiczn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pracowanie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cznego programu wspomaga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ealizacj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zaplanowanych działań i monitorowanie ich efektów, – wykłady, warsztaty, seminaria, konsultacje indywidualne i zbiorow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waluacj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programu i opracowanie sprawozdania z jego realiza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sady realizacji Programu na stronie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mgorz.edu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59A6-CC70-41A9-9E38-502363A8AA1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Sieci współpracy i samokształce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ieci współpracy i samokształcenia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(12 sieci)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rektorów i wicedyrektorów szkół/placówek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rektorów poradni psychologiczno-pedagogicznych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0000"/>
                </a:solidFill>
                <a:latin typeface="Calibri"/>
              </a:rPr>
              <a:t>Akademia pedagoga i psychologa szkolnego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auczycieli wychowania do życia w rodzinie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języków obcych, informatyki „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</a:rPr>
              <a:t>Algorytmika i programowanie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auczycieli przedszkoli i edukacji wczesnoszkolnej „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</a:rPr>
              <a:t>Programowanie w ruchu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auczycieli bibliotekarzy szkolnych 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</a:rPr>
              <a:t>„Wykorzystanie TIK </a:t>
            </a:r>
            <a:br>
              <a:rPr sz="2200"/>
            </a:br>
            <a:r>
              <a:rPr b="0" i="1" lang="pl-PL" sz="2200" spc="-1" strike="noStrike">
                <a:solidFill>
                  <a:srgbClr val="000000"/>
                </a:solidFill>
                <a:latin typeface="Calibri"/>
              </a:rPr>
              <a:t>w promocji czytelnictwa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auczycieli realizujących Program 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</a:rPr>
              <a:t>„Edukacja Globalna – Liderzy Edukacji na Rzecz Rozwoju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25CC-2327-40A2-ADE0-070720D06CB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8760" y="112500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W  roku szkolnym 2017/2018 WOM  proponuje studia podyplomowe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na podstawie porozumienia z Akademią im. Jakuba  z Paradyża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w Gorzowie Wlkp.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rządzanie oświatą (250 godz. + 30 praktyk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radztwo edukacyjno-zawodowe  (35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rapia pedagogiczna (35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ligofrenopedagogika (35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gotowanie pedagogiczne (270 godz. + 150 godz. praktyki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formacji szczegółowych udziela Biuro Obsługi Szkoleń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» e-mail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rona Kontakt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» telefon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(95) 7-21-61-14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4CA3-7118-4922-8472-D95D538DF4D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ursy nadające uprawnienia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ur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ierownika wypoczynku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ur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wychowawcę wypoczynku  (36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urs  kierowników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cieczek szkolnych i obozów wędrownyc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24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urs przygotowujący nauczycieli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rowadzenia zajęć edukacyjnych w zakresie udzielania pierwszej pomo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3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formacji szczegółowych udziela Biuro Obsługi Szkole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9CA5-6B8C-4A0B-A295-F36D9393CC1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na rok szk. 2017/2018 obejmuje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8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matów i adresowana jest do wszystkich typów szkół i placów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matyka szkoleń uwzględnia podstawowe kierunki polityki oświatowej państwa, wprowadzane zmi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ystemie oświaty, wnioski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 nadzoru pedagogicznego oraz wyniki egzaminów zewnętrznych szkół lubuski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Zachęcamy do składania zamówień na tematy spoza ofert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9166-3C27-477A-A857-355E6AA029C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1052640"/>
          <a:ext cx="8229600" cy="5068800"/>
        </p:xfrm>
        <a:graphic>
          <a:graphicData uri="http://schemas.openxmlformats.org/drawingml/2006/table">
            <a:tbl>
              <a:tblPr/>
              <a:tblGrid>
                <a:gridCol w="669960"/>
                <a:gridCol w="7559640"/>
              </a:tblGrid>
              <a:tr h="43164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ferta temató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51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czyciel w zreformowanej szkole – aspekty praw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4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spółpraca z rodzicami – szansa czy konieczność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zpieczeństwo dzieci i młodzieży w cyberprzestrze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9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oholizm wśród dzieci i młodzieży – „pokolenie pochylonych głów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9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ydaktyka wspierana chmurą Goo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5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ityka bezpieczeństwa w szkole/placówce oświatowej w zakresie ochrony danych osobow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7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korzystanie nowych technologii do uatrakcyjnienia procesu kształcenia i motywowania uczniów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aktywnego uczenia si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9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komendowany program profilaktyczny: Szkolna interwencja profilaktycz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924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k szkoła/przedszkole może stać się placówką promującą zdrowi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9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a wychowawcza z klasą szkolną – praktyczne wskazówki, sprawdzone rozwiąz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9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ic nadopiekuńczy, unikający, odtrącający – budowanie strategii porozumi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9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y nie znaczy gorszy – jak przeciwdziałać wykluczeniu ucznia z grupy rówieśniczej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9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ja pomocy psychologicznej w szkole w świetle zm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9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uzykalnianie dzieci w wieku przedszkolnym wg koncepcji E.E. Gord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A815-CD12-4AA1-8D8A-A2FDF1BB47B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1197000"/>
          <a:ext cx="8147160" cy="5145120"/>
        </p:xfrm>
        <a:graphic>
          <a:graphicData uri="http://schemas.openxmlformats.org/drawingml/2006/table">
            <a:tbl>
              <a:tblPr/>
              <a:tblGrid>
                <a:gridCol w="647640"/>
                <a:gridCol w="7499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ja i higiena gło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aching w pracy nauczyci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ywowanie uczniów do nauki w szkole XXI wieku w świetle osiągnięć neurodydakty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ywidualizacja pracy w klasie o zróżnico­wanych osiągnięciach edukacyj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ywne systematyzowanie i utrwalanie wied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korzystanie telefonu komórkowego do utrwalania i sprawdzania wiedzy uczni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enianie kształtujące w praktyce szkol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zamin ósmoklasisty w r. szk. 2018/2019 – informacje i wskazówki metody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dania PISA – cele, organizacja, wyniki, przykładowe zadania i ich wykorzystanie w dydaktyce szkol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la szkoły w podejmowaniu decyzji edukacyjno-zawodowych uczni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ształtowanie i rozwijanie postaw patriotycznych i obywatelskich w szk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kumenty potwierdzające kwalifikacje w szkole zawodowej w odniesieniu do Polskiej Ramy Kwalifik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k uczyć jeszcze lepiej? Metody i techniki uczenia się przyjazne mózgow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en dla wszystkich, wszyscy dla jednego – indywidualne i grupowe metody pracy w edukacji włączając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1BE4-FABB-4654-A286-96A88808971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szkoleń warsztatowych proponowanych do realizacji w szkole/placówce na podstawie zamówienia dyrektor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ejmuje </a:t>
            </a:r>
            <a:r>
              <a:rPr b="1" lang="pl-PL" sz="2800" spc="-1" strike="noStrike">
                <a:solidFill>
                  <a:srgbClr val="17375e"/>
                </a:solidFill>
                <a:latin typeface="Calibri"/>
              </a:rPr>
              <a:t>25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 temató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kolenia dla grup liczących do 15 uczestników 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w przypadku szkoleń informatycznych – liczba uczestników powinna odpowiadać liczbie stanowisk komputerow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WOM dysponuje Pracownią mobilną na 15 stanowisk.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Przyjmowane są również zamówienia na tematy spoza of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9A3A-9963-447E-B760-4FCFD2DDAE7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7375e"/>
                </a:solidFill>
                <a:latin typeface="Calibri"/>
              </a:rPr>
              <a:t>Warsztaty w sz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268280"/>
          <a:ext cx="7920000" cy="5178600"/>
        </p:xfrm>
        <a:graphic>
          <a:graphicData uri="http://schemas.openxmlformats.org/drawingml/2006/table">
            <a:tbl>
              <a:tblPr/>
              <a:tblGrid>
                <a:gridCol w="458640"/>
                <a:gridCol w="7461360"/>
              </a:tblGrid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9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zic – sojusznik czy przeciwnik? Warunki sprzyjające współpra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2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mawiać z uczniami w sytuacjach trudnych i kryzysowych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7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iżej siebie – scenariusze lekcji wychowawczych w klasach IV-VII szkół podstawowych ułatwiające poznanie siebie i rozwó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iżej siebie – scenariusze lekcji wychowawczych w gimnazjum i szkole ponadgimnazjalnej ułatwiające poznanie siebie i rozwój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rwsza pomoc przedmedycz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yczne gry strategicz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nauk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y nauczania – uczenia się przyjazne mózgow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teczne techniki uczenia się i naucz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ykłady zastosowań wybranych metod nauczania na przedmiotach humanistycznych w ośmioletniej szkole podstawowe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jęcia wspomagające proces uczenia si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niki egzaminu gimnazjalnego w części humanistycznej i językowej drogowskazem w nauczycielskich działaniach dydaktycz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B427-6DDD-4E3D-9351-B92837E47BE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197000"/>
          <a:ext cx="8229600" cy="5334120"/>
        </p:xfrm>
        <a:graphic>
          <a:graphicData uri="http://schemas.openxmlformats.org/drawingml/2006/table">
            <a:tbl>
              <a:tblPr/>
              <a:tblGrid>
                <a:gridCol w="514440"/>
                <a:gridCol w="7715160"/>
              </a:tblGrid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i dlaczego nauczyciele powinni przygotowywać uczniów do wystąpień publicznych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eciwdziałanie mowie nienawiści – propozycje lekcji wychowawczy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den dla wszystkich, wszyscy dla jednego – indywidualne i grupowe metody pracy </a:t>
                      </a:r>
                      <a:br>
                        <a:rPr sz="1500"/>
                      </a:b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edukacji włączające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y emisji głosu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ńce i zabawy z muzyką formą integracji rady pedagogicznej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yfikowanie programu nauczania dla zawodu w świetle nowych regulacji prawny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wy programowania w programie Scratch Juni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rzenie materiałów multimedialnych za pomocą urządzeń cyfrowych w dydaktyce przedmiotowej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oholizm wśród dzieci i młodzież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roniczne zasoby edukacyj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edza z chmury – uczeń jako twórca własnych zasobów wiedz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mifikacja, WebQuest, odwrócona kla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wprowadzać podstawowe elementy oceniania kształtujacego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436F-679D-4E7C-811E-91C84FFE19B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Calibri"/>
              </a:rPr>
              <a:t>Działalność szkoleniowa Ośrod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ferta szkoleniowa Ośrodka na rok szkolny 2017/18 zamieszczona jest na stronie internetowej WOM w postaci elektronicznej </a:t>
            </a: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– www.womgorz.edu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iera ok. 200 form doskonalenia (kursów,  warsztatów, seminariów, szkoleń rad pedagogicznych, warszta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zkole, konferencji, wycieczek dydaktycznych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zupełniona jest  o ofertę kursów nadających uprawnie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studiów podyplom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D22A-A67D-4BE7-80AF-A93CADD0886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onferencje problem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Konferencje wojewódzkie i problemow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Uczeń ze specjalnymi potrzebami edukacyjnymi – czego potrzebuje, a co otrzymuje?” –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uczyciele wszystkich typów szkół i placówek, pedagodzy, psycholodzy szkolni (marzec/kwiecień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2.   „Patriotyzm i obywatelstwo w XXI wieku” -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uczyciele wszystkich typów szkół   (IV kwartał 2017 r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3.   „Wyzwania w Edukacji – programowanie” –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uczyciele informatyki i zajęć komputerowych wszystkich typów szkół (luty/marzec 2018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4.   Konferencja problemowa n/t regionalizmu –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ibliotekarze wszystkich typów szkół, nauczyciele zainteresowani tematyką (marzec/kwiecień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6296-E34B-4D96-9CAE-C4C04BDE803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Organizacja Ośrod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Zadania statutowe realizują cztery Pracown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66"/>
                </a:solidFill>
                <a:latin typeface="Calibri"/>
              </a:rPr>
              <a:t>Pracownia Zarządzania Oświat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66"/>
                </a:solidFill>
                <a:latin typeface="Calibri"/>
              </a:rPr>
              <a:t>Pracownia Psychoedukacji i Wychowani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66"/>
                </a:solidFill>
                <a:latin typeface="Calibri"/>
              </a:rPr>
              <a:t>Pracownia Doskonalenia Metodyczneg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66"/>
                </a:solidFill>
                <a:latin typeface="Calibri"/>
              </a:rPr>
              <a:t>Pracownia Technologii Informacyjn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oraz  </a:t>
            </a: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            Biblioteka Pedagog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532-CA5B-45FC-8666-83ACB936150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Calibri"/>
              </a:rPr>
              <a:t>Zespół Doradców Metody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oku szk. 2017/2018 liczy 12 doradców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ą to współpracownicy Ośrodka, którzy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mocy porozumienia z Zarządem Miasta Gorzowa z dnia 7 stycznia 2002 r.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unkcjonują w siedzibie Ośrodka i uczestniczą w realizacji jego zadań statut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3E2A-2D03-4882-8B58-1EBF27F9DF0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1B76-27B2-4977-A033-A0489825173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2"/>
          <p:cNvSpPr/>
          <p:nvPr/>
        </p:nvSpPr>
        <p:spPr>
          <a:xfrm>
            <a:off x="611280" y="1125360"/>
            <a:ext cx="799308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66"/>
                </a:solidFill>
                <a:latin typeface="Arial"/>
              </a:rPr>
              <a:t>Doradcy metodyczni jako specjaliści przedmiotowi wspomagają nauczycieli oraz rady pedagogicz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66"/>
                </a:solidFill>
                <a:latin typeface="Arial"/>
              </a:rPr>
              <a:t>w planowaniu, organizowaniu i badaniu efektów procesu dydaktyczno-wychowawczeg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66"/>
                </a:solidFill>
                <a:latin typeface="Arial"/>
              </a:rPr>
              <a:t>opracowaniu, doborze i adaptacji programów nauczan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66"/>
                </a:solidFill>
                <a:latin typeface="Arial"/>
              </a:rPr>
              <a:t>rozwijaniu umiejętności metodycznyc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66"/>
                </a:solidFill>
                <a:latin typeface="Arial"/>
              </a:rPr>
              <a:t>podejmowaniu działań innowacyjny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66"/>
                </a:solidFill>
                <a:latin typeface="Arial"/>
              </a:rPr>
              <a:t>Organizują i prowadzą doskonalenie zawodowe nauczyciel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66"/>
                </a:solidFill>
                <a:latin typeface="Arial"/>
              </a:rPr>
              <a:t>Zespół doradców zapewnia dostęp </a:t>
            </a:r>
            <a:br>
              <a:rPr sz="2200"/>
            </a:br>
            <a:r>
              <a:rPr b="0" lang="pl-PL" sz="2200" spc="-1" strike="noStrike">
                <a:solidFill>
                  <a:srgbClr val="000066"/>
                </a:solidFill>
                <a:latin typeface="Arial"/>
              </a:rPr>
              <a:t>do doradztwa nauczycielom z siedmiu północnych powiatów województwa, </a:t>
            </a:r>
            <a:br>
              <a:rPr sz="2200"/>
            </a:br>
            <a:r>
              <a:rPr b="0" lang="pl-PL" sz="2200" spc="-1" strike="noStrike">
                <a:solidFill>
                  <a:srgbClr val="000066"/>
                </a:solidFill>
                <a:latin typeface="Arial"/>
              </a:rPr>
              <a:t>obejmując ich opieką merytoryczno-metodyczną. </a:t>
            </a:r>
            <a:br>
              <a:rPr sz="28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Calibri"/>
              </a:rPr>
              <a:t>Rejon OKE w WOM-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Calibri"/>
              </a:rPr>
              <a:t>Na podstawie porozumienia pomiędzy Dyrektorem WOM-u a Dyrektorem OKE w Poznaniu </a:t>
            </a:r>
            <a:br>
              <a:rPr sz="2800"/>
            </a:br>
            <a:r>
              <a:rPr b="0" lang="pl-PL" sz="2800" spc="-1" strike="noStrike">
                <a:solidFill>
                  <a:srgbClr val="000066"/>
                </a:solidFill>
                <a:latin typeface="Calibri"/>
              </a:rPr>
              <a:t>w Wojewódzkim Ośrodku Metodycznym znajduje się siedziba rejonu koordynacji egzaminów zewnętrznych dla szkół siedmiu północnych powiatów lubuski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Calibri"/>
              </a:rPr>
              <a:t>Współpraca obejmuje działalność informacyjną, szkoleniową i organizacyjn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E457-E8F9-45EE-B149-EC41C71C60A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Biblioteka Pedagogiczna WOM-u</a:t>
            </a:r>
            <a:br>
              <a:rPr sz="36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l. Łokietka 20A,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95) 721-61-4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Symbol zastępczy zawartości 4" descr="BIBLIOT.jpg"/>
          <p:cNvPicPr/>
          <p:nvPr/>
        </p:nvPicPr>
        <p:blipFill>
          <a:blip r:embed="rId1"/>
          <a:stretch/>
        </p:blipFill>
        <p:spPr>
          <a:xfrm>
            <a:off x="682560" y="1700280"/>
            <a:ext cx="3353040" cy="452448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5"/>
          <p:cNvSpPr/>
          <p:nvPr/>
        </p:nvSpPr>
        <p:spPr>
          <a:xfrm>
            <a:off x="4067280" y="1989000"/>
            <a:ext cx="482580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Organizuje i prowadzi wspomaganie: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szkół i placówek w realizacji zadań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dydaktycznych, wychowawcz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i opiekuńczy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bibliotek szkol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Organizuje i prowadzi sieci współpracy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  i samokształcenia dla nauczycieli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-154800" y="44280"/>
            <a:ext cx="9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Biblioteka Pedagogiczna stanowi wojewódzkie multimedialne centrum informacji pedagogicznej oraz centrum zbiorów z zakresu pedagogiki, psychologii i nauk pokrewnyc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14AA-D978-4E15-86B6-68D4DF98D0A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głoszenia na wszystkie formy doskonalenia organizowane przez W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przyjmowane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są</a:t>
            </a:r>
            <a:r>
              <a:rPr b="1" lang="pl-PL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drogą elektroniczną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 pośrednictwem strony internetow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mgorz.edu.pl</a:t>
            </a:r>
            <a:r>
              <a:rPr b="0" lang="pl-PL" sz="54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5116-822D-459F-B947-6B6B2C24FE8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formacji na temat szkoleń udzie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Biuro Obsługi Szkole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.: 95 721 61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-mail: </a:t>
            </a:r>
            <a:br>
              <a:rPr sz="3200"/>
            </a:b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os.katarzyna.szczepaniak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os.anna.olejniczak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os.katarzyna.burdzinska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92D0-4506-4107-B99D-E63E271E48F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Wojewódzkie Granty Edukacy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oku szkolnym 2017/2018 WOM na podstawie umow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Kuratorium Oświaty w Gorzowie Wlkp. będzie realizował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22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ranty edukacyjne. W ramach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Lubuskiej Akademii Dyrektora Szkoły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ponujemy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tematy dla dyrektorów różnych typów szkó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Zadania dyrektora szkoły w kontekście reformy systemu edukacji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Organizacja doradztwa zawodowego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Aktualizacja dokumentacji pracy szkoły związana </a:t>
            </a: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z reformą systemu edukacj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9605-BD28-4950-9E7F-3795E637545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Wojewódzkie Granty Edukacyj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i="1" lang="pl-P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„Zadania dyrektora szkoły w kontekście reformy systemu edukacji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dania dyrektora szkoły w świetle nowych regulacji prawnych (organizacyjne, dydaktyczno-wychowawcze, kadrowe; harmonogram realizacji zadań dyrektora szkoły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dania dyrektora szkoły w zakresie koncepcji pracy szkoły, statutu szkoły, programu wychowawczo-profilaktycznego, nadzoru pedagogicznego (modyfikacja koncepcji pracy szkoły; opracowanie nowego statutu szkoły; opracowanie programu wychowawczo-profilaktycznego, planu nadzoru pedagogicznego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ganizacja wolontariatu i doradztwa zawodowego w szk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2. „Organizacja doradztwa zawodowego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stawy prawne doradztwa zawodowego w szk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mpetencje personalne i społeczne oczekiwane na rynku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szary doradztwa zawodowego w szkole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worzenie i realizacja programu doradztwa zawodowego  w szk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B829-B247-4246-A669-4BF3FD56EF2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ojewódzkie Granty Eduk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Aktualizacja dokumentacji pracy szkoły związana z reformą systemu edukacji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kumentacja szkoły w przepisach prawa oświatowego (przepisy prawne regulujące zmiany w oświacie; wykaz dokumentów w szkole w kontekście zmian; dokumentowanie zadań wynikających z nadzoru pedagogicznego; statut i regulaminy w szko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kumentacja kadrowa w zakresie nawiązywania i rozwiązywania stosunku pracy (rozwiązania kadrowe wynikające z założeń reformy edukacji; analiza przykładowych dokumentów dotyczących rozwiązań kadrowy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prawność językowa w dokumentach szkolnych (język dokumentów szkolnych – wybrane zagadnienia poprawnościowe; poprawność językowa dokumentów szkolnych na przykładzie „Zasad wewnątrzszkolnego oceniani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BEE-0A82-4D72-AD56-7033F7793E3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ojewódzkie Granty Eduk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Przygotowanie statutów szkół i przedszkoli zgodnie z nowym prawem oświatowym”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yrektorzy przedszkoli i różnych typów szkó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Planowanie i organizacja pracy ośmioletniej szkoły podstawowej”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dyrektorzy szkół podstawow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ad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Organizacja pomocy psychologiczno-pedagogicznej dla uczniów, którzy nie posiadają opinii lub orzeczenia” 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yrektorzy, nauczyciele, pedagodzy szkolni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Kształtowanie kompetencji kluczowych”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yrektorzy, nauczyciele różnych typów szkó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Pozyskiwanie środków pozabudżetowych” 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yrektorzy, nauczyciele różnych typów szkó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2583-A71E-4DA6-B559-4F657B7645F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ojewódzkie Granty Eduk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Przygotowanie statutów szkół i przedszkoli zgodnie z nowym prawem oświatowym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worzenie nowego statutu szkoły/przedszkola (podstawy prawne statutu  szkoły/przedszkola w świetle nowych przepisów; konstrukcja i podstawowa zawartość statutu; zasady techniki prawodawczej obowiązujące przy tworzeniu aktów prawa wewnątrzszkolnego; tryb i zasady wprowadzania zmian w statuci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pisy statutowe – metodologia pracy (organizacja pracy nad projektem statutu; konstrukcja statutu uwzględniająca wszystkie obszary pracy szkoły; praktyczne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ćwiczenia redakcyjn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200" spc="-1" strike="noStrike">
                <a:solidFill>
                  <a:srgbClr val="1f497d"/>
                </a:solidFill>
                <a:latin typeface="Calibri"/>
              </a:rPr>
              <a:t>Planowanie i organizacja pracy ośmioletniej szkoły podstawowej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miany w prawie oświatowym regulujące reformę systemu edukacj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przepisy prawne wprowadzające reformę, rzutujące na  proces planowania i organizacji pracy szkoły; przygotowanie dyrektorów do konstruowania nowych statutów szkó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ybrane zagadnienia związane z planowaniem i organizacją pracy szkoły (metodyka pracy nad opracowaniem programu wychowawczo-profilaktycznego; projektowanie ewaluacji programu wychowawczo-profilaktycznego; planowanie nadzoru pedagogicznego zgodnie ze zmianami w prawie oświatowym; sporządzanie planu pracy szkoły – standardy, modelowa struktu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6AC0-EDB2-4C93-BE53-F14D0C680BE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Kompleksowe wspomaganie szkół/placów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oku szkolnym 2017/2018  kontynuowane będą działania nastawion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kompleksowe wspomaganie szkół/placówek,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polegając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zaplanowaniu i przeprowadzeniu działań mających na celu ich rozwój oraz organizowanie i tworzenie </a:t>
            </a: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sieci współpracy i samokształceni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nauczycieli oraz dyrektor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B9CF-0F78-41F9-8E7D-96BF710E37B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ontynuacja oferty wspomagania szkół i placówe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Program wspomagania szkół </a:t>
            </a: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i placówek województwa lubuskiego </a:t>
            </a:r>
            <a:br>
              <a:rPr sz="2400"/>
            </a:br>
            <a:r>
              <a:rPr b="1" i="1" lang="pl-PL" sz="2400" spc="-1" strike="noStrike">
                <a:solidFill>
                  <a:srgbClr val="1f497d"/>
                </a:solidFill>
                <a:latin typeface="Calibri"/>
              </a:rPr>
              <a:t>„P o ł ą c z m y  s i ł y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el programu: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omaganie szkół i placów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celu poprawy jakości ich pracy w zakresie zdiagnozowanych potrze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2800-9A2D-45B9-8166-7C51F0417C4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9:55:47Z</dcterms:created>
  <dc:creator>Emil</dc:creator>
  <dc:description/>
  <dc:language>en-US</dc:language>
  <cp:lastModifiedBy>Wojewódzki Ośrodek Metodyczny</cp:lastModifiedBy>
  <cp:lastPrinted>2016-09-27T11:45:28Z</cp:lastPrinted>
  <dcterms:modified xsi:type="dcterms:W3CDTF">2017-08-25T05:56:10Z</dcterms:modified>
  <cp:revision>291</cp:revision>
  <dc:subject/>
  <dc:title>Slajd 1</dc:title>
</cp:coreProperties>
</file>