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C0B-24E3-4126-8B80-8FB541D6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A98-A557-448F-8256-8270107F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482-3B8F-40FD-96BC-A45D3303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F0B-FFEA-442B-A058-E5713F5A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E9DA-9C59-41DF-9FEF-2381C1B9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D7A3-34CD-4861-8F90-4383F453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55F8-C789-4B88-83B8-A7531143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926D-24B0-4F4E-9484-E2EDE61B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4D83-7860-443A-B6FF-0665E01A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A1B2-9B49-4A69-8EDF-4FAF45A9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5F44-1AF7-4F0B-AB80-C4EC3CDC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05B-C2A3-4CD3-A96D-E96510D7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83B9-48BB-4BFA-B852-F931CDCB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78A4-6A66-4651-92AC-F790B2DF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32A8-48F6-4770-9CD4-9DB5B1C3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E9A0-9833-4EE6-8005-1679BB69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4349-5C2B-4FB8-AF02-7A996232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5C3-C07A-4274-9123-41FAF1B6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2FB-E9E2-4900-AB01-A0E688F9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073-AB14-4CF5-ABE2-B1EA691A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6FA-2F26-4C9A-B009-BD67C1B6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7D0-3CE0-48B5-92C6-8D565CEC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AC4-D2DB-483B-A22F-24600835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112-200A-49D9-8920-C2066886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2F7E-1ECD-413D-A8E2-E4F23869542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D33E-EDDD-4B51-A0FA-270EF7D92F8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Times New Roman"/>
              </a:rPr>
              <a:t>Informacja na temat oferty</a:t>
            </a:r>
            <a:r>
              <a:rPr b="0" lang="pl-PL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pl-PL" sz="4000" spc="-1" strike="noStrike">
                <a:solidFill>
                  <a:srgbClr val="ff0000"/>
                </a:solidFill>
                <a:latin typeface="Times New Roman"/>
              </a:rPr>
              <a:t>Ośrodka Doskonalenia Nauczycieli </a:t>
            </a:r>
            <a:br>
              <a:rPr sz="4000"/>
            </a:br>
            <a:r>
              <a:rPr b="1" lang="pl-PL" sz="4000" spc="-1" strike="noStrike">
                <a:solidFill>
                  <a:srgbClr val="ff0000"/>
                </a:solidFill>
                <a:latin typeface="Times New Roman"/>
              </a:rPr>
              <a:t>w Zielonej Górze</a:t>
            </a:r>
            <a:br>
              <a:rPr sz="4000"/>
            </a:br>
            <a:r>
              <a:rPr b="1" lang="pl-PL" sz="4000" spc="-1" strike="noStrike">
                <a:solidFill>
                  <a:srgbClr val="ff0000"/>
                </a:solidFill>
                <a:latin typeface="Times New Roman"/>
              </a:rPr>
              <a:t>w roku szkolnym 2017/2018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14400" y="-609480"/>
            <a:ext cx="8229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72880" y="1412640"/>
            <a:ext cx="79707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Times New Roman"/>
              </a:rPr>
              <a:t>Popularyzowanie przykładów dobrej prakty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-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zamieszczanie na stronie internetowej Ośrodka przykładów dobrej praktyki realizowanych w szkołach/placówkach (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zamieszczono 71 przykładów z różnego typu szkół/placówek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-  propagowanie przykładów dobrej praktyki na wojewódz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konferencjach i szkoleniach organizowanych przez Ośrod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8317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26560" y="1125360"/>
            <a:ext cx="8317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00"/>
                </a:solidFill>
                <a:latin typeface="Times New Roman"/>
              </a:rPr>
              <a:t>Platforma usług edukacyjnych – 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00"/>
                </a:solidFill>
                <a:latin typeface="Times New Roman"/>
              </a:rPr>
              <a:t>(STREFA OSOBISTEGO ROZWOJ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Centrum coachingowe (sesje indywidualne i grupow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uperwizje dla szkół (małe grupy nauczycie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zkolenia z zakresu udzielania pierwszej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Kursy przygotowujące do ma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83170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762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90720" y="5943600"/>
            <a:ext cx="2636640" cy="728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934320" y="5562720"/>
            <a:ext cx="2209680" cy="1295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38080" y="838080"/>
            <a:ext cx="8305920" cy="52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Ośrodek Doskonalenia Nauczycieli w Zielonej Gór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Punkt Informacji Europejskiej </a:t>
            </a:r>
            <a:r>
              <a:rPr b="1" i="1" lang="pl-PL" sz="2400" spc="-1" strike="noStrike">
                <a:solidFill>
                  <a:srgbClr val="003366"/>
                </a:solidFill>
                <a:latin typeface="Times New Roman"/>
              </a:rPr>
              <a:t>Europe Direct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Wydawnictwo Macmillan, Wydawnictwo Pea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zapraszają do udziału w konferenc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z okazji Europejskiego Dnia Języ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6600"/>
                </a:solidFill>
                <a:latin typeface="Times New Roman"/>
              </a:rPr>
              <a:t>Porozumiewanie się w językach obcych kluczową kompetencją społeczeństwa XXI wie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która odbędzie się 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29 września 2017 rok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w Sali Kolumnowej Urzędu Marszałkowskieg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w Zielonej Górze w godz. 10.00 – 14.0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3300"/>
                </a:solidFill>
                <a:latin typeface="Times New Roman"/>
              </a:rPr>
              <a:t>Patronat Marszałka Województwa Lubuskiego i Lubuskiego Kuratora Oświa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6600"/>
                </a:solidFill>
                <a:latin typeface="Times New Roman"/>
              </a:rPr>
              <a:t>Dziękuję Państwu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6600"/>
                </a:solidFill>
                <a:latin typeface="Times New Roman"/>
              </a:rPr>
              <a:t>za uwag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7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New Times Roman"/>
              </a:rPr>
              <a:t>KIERUNKI PRACY OD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New Times Roman"/>
              </a:rPr>
              <a:t>W ROKU SZKOLNYM 2017/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New Times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New Times Roman"/>
              </a:rPr>
              <a:t>WSPOMAGANIE PRACY SZKÓŁ/PLACÓW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New Times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New Times Roman"/>
              </a:rPr>
              <a:t>DOSKONALENIE ZAWODOWE NAUCZYCIELI I DYREKTOR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New Times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New Times Roman"/>
              </a:rPr>
              <a:t>ORGANIZOWANIE I PROWADZENIE SIECI  WSPÓŁPRACY i SAMOKSZTAŁC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New Times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New Times Roman"/>
              </a:rPr>
              <a:t>POPULARYZOWANIE DOBRYCH PRAKT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New Times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New Times Roman"/>
              </a:rPr>
              <a:t> </a:t>
            </a:r>
            <a:r>
              <a:rPr b="1" lang="pl-PL" sz="2400" spc="-1" strike="noStrike">
                <a:solidFill>
                  <a:srgbClr val="003366"/>
                </a:solidFill>
                <a:latin typeface="New Times Roman"/>
              </a:rPr>
              <a:t>SOR, CZYLI STREFA OSOBISTEGO ROZWO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3300"/>
                </a:solidFill>
                <a:latin typeface="Times New Roman"/>
              </a:rPr>
              <a:t>Wspomaganie pracy szkół/placów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kompleksowe wspomagania szkół/placów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(wg programu 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realizacja 5 obszarowych programów wspomag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* </a:t>
            </a: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Motywowanie uczniów do uczenia się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* </a:t>
            </a: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Warsztat pracy wychowawcy klasy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* </a:t>
            </a: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Język obcy w przedszkolu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* </a:t>
            </a: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Język obcy w edukacji wczesnoszkolnej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*  </a:t>
            </a: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Od podstawy programowej do egzaminu zawodowego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531800" y="5467320"/>
          <a:ext cx="6086520" cy="1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1800" y="5467320"/>
                    <a:ext cx="6086520" cy="1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8172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Times New Roman"/>
              </a:rPr>
              <a:t>Wspomaganie pracy szkół/placówe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Times New Roman"/>
              </a:rPr>
              <a:t>Partnerstwo w projekcie PO WER „Moje kompetencje – Twój sukces”, który zakła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* przeszkolenie pracowników i </a:t>
            </a:r>
            <a:r>
              <a:rPr b="1" lang="pl-PL" sz="2400" spc="-1" strike="noStrike" u="sng">
                <a:solidFill>
                  <a:srgbClr val="003366"/>
                </a:solidFill>
                <a:uFillTx/>
                <a:latin typeface="Times New Roman"/>
              </a:rPr>
              <a:t>współpracowników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systemu wspomagania szkół/placówe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*  realizację procesu wspomagania w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szkołach/placówkach (w tym przedszkolach) prz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uczestników szkol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00"/>
                </a:solidFill>
                <a:latin typeface="Times New Roman"/>
              </a:rPr>
              <a:t>Wspomaganie pracy szkół/placów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prowadzenie/moderowanie szkoleń </a:t>
            </a:r>
            <a:r>
              <a:rPr b="1" lang="pl-PL" sz="2400" spc="-1" strike="noStrike" u="sng">
                <a:solidFill>
                  <a:srgbClr val="003366"/>
                </a:solidFill>
                <a:uFillTx/>
                <a:latin typeface="Times New Roman"/>
              </a:rPr>
              <a:t>poza siedzibą Ośrodka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* oferta obejmuje ponad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70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różnych tematów szkole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* tematyka szkoleń została zaktualizowan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*  modyfikacja wyszukiwarki internetowej OD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* także realizatorzy zewnętrz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* nowe tematy szkole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- Techniki i narzędzia coachingu w pracy nauczycie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- Tutoring jako indywidualizacja pracy z uczni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Uczenie się przez eksperymentowa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- Nauka programowania w szkole - Scr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00"/>
                </a:solidFill>
                <a:latin typeface="Times New Roman"/>
              </a:rPr>
              <a:t>Wspomaganie pracy szkół/placów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66"/>
                </a:solidFill>
                <a:latin typeface="Times New Roman"/>
              </a:rPr>
              <a:t>-  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prowadzenie diagnozy osiągnięć edukacyjnych ucznió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*     testy (maj 2018 r.) d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III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klasy szkoły podstaw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              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(j. polski, matematyka, j. angielski, j. niemiec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- VII</a:t>
            </a:r>
            <a:r>
              <a:rPr b="1" i="1" lang="pl-P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klasy szkoły podstaw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(j. polski, matematyka, j. angielski, j. niemiec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i="1" lang="pl-PL" sz="24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II</a:t>
            </a:r>
            <a:r>
              <a:rPr b="1" i="1" lang="pl-P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klasy gimnazj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j. polski, matematyka</a:t>
            </a: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i="1" lang="pl-P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3300"/>
                </a:solidFill>
                <a:latin typeface="Times New Roman"/>
              </a:rPr>
              <a:t>Doskonalenie nauczycieli i dyrektorów szkół/placów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Times New Roman"/>
              </a:rPr>
              <a:t>-  </a:t>
            </a: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186 różnych tematów form doskonale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3366"/>
                </a:solidFill>
                <a:latin typeface="Times New Roman"/>
              </a:rPr>
              <a:t>* uporządkowanie tematów w wyszukiwarce wg (</a:t>
            </a:r>
            <a:r>
              <a:rPr b="0" i="1" lang="pl-PL" sz="2000" spc="-1" strike="noStrike">
                <a:solidFill>
                  <a:srgbClr val="003366"/>
                </a:solidFill>
                <a:latin typeface="Times New Roman"/>
              </a:rPr>
              <a:t>kierunków polityki oświatowej państwa, </a:t>
            </a:r>
            <a:r>
              <a:rPr b="1" i="1" lang="pl-PL" sz="2000" spc="-1" strike="noStrike">
                <a:solidFill>
                  <a:srgbClr val="003366"/>
                </a:solidFill>
                <a:latin typeface="Times New Roman"/>
              </a:rPr>
              <a:t>wymagań państwa stawianych szkołom/placówkom</a:t>
            </a:r>
            <a:r>
              <a:rPr b="0" i="1" lang="pl-PL" sz="2000" spc="-1" strike="noStrike">
                <a:solidFill>
                  <a:srgbClr val="003366"/>
                </a:solidFill>
                <a:latin typeface="Times New Roman"/>
              </a:rPr>
              <a:t>, tematyki doskonalenia, programu edukacyjnego,adresata kursu, kierownika kursu</a:t>
            </a:r>
            <a:r>
              <a:rPr b="0" lang="pl-PL" sz="20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Times New Roman"/>
              </a:rPr>
              <a:t>-  </a:t>
            </a: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kursy kwalifikacyjne z zakre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i="1" lang="pl-PL" sz="2000" spc="-1" strike="noStrike">
                <a:solidFill>
                  <a:srgbClr val="003366"/>
                </a:solidFill>
                <a:latin typeface="Times New Roman"/>
              </a:rPr>
              <a:t>* zarządzania oświat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i="1" lang="pl-PL" sz="2000" spc="-1" strike="noStrike">
                <a:solidFill>
                  <a:srgbClr val="003366"/>
                </a:solidFill>
                <a:latin typeface="Times New Roman"/>
              </a:rPr>
              <a:t>* wczesnego nauczania języka angielski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- kursy nadające uprawnie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* </a:t>
            </a:r>
            <a:r>
              <a:rPr b="0" i="1" lang="pl-PL" sz="2000" spc="-1" strike="noStrike">
                <a:solidFill>
                  <a:srgbClr val="003366"/>
                </a:solidFill>
                <a:latin typeface="Times New Roman"/>
              </a:rPr>
              <a:t>przygotowujący nauczycieli do prowadzenia zajęć edukacyjnych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i="1" lang="pl-PL" sz="2000" spc="-1" strike="noStrike">
                <a:solidFill>
                  <a:srgbClr val="003366"/>
                </a:solidFill>
                <a:latin typeface="Times New Roman"/>
              </a:rPr>
              <a:t>w zakresie udzielania pierwszej pomo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i="1" lang="pl-PL" sz="2000" spc="-1" strike="noStrike">
                <a:solidFill>
                  <a:srgbClr val="003366"/>
                </a:solidFill>
                <a:latin typeface="Times New Roman"/>
              </a:rPr>
              <a:t>* kierowników wycieczek szkolnych – wg programu M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i="1" lang="pl-PL" sz="2000" spc="-1" strike="noStrike">
                <a:solidFill>
                  <a:srgbClr val="003366"/>
                </a:solidFill>
                <a:latin typeface="Times New Roman"/>
              </a:rPr>
              <a:t>* kierowników wypoczynku – wg programu 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8305920" cy="1371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8305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4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00"/>
                </a:solidFill>
                <a:latin typeface="Times New Roman"/>
              </a:rPr>
              <a:t>Doskonalenie nauczycieli i dyrektorów szkół/placów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realizacja  15 bezpłatnych szkoleń finansowanych w  ramach grantów Lubuskiego Kuratora Oświ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realizacja programu edukacyjnego </a:t>
            </a:r>
            <a:r>
              <a:rPr b="1" i="1" lang="pl-PL" sz="2400" spc="-1" strike="noStrike">
                <a:solidFill>
                  <a:srgbClr val="003366"/>
                </a:solidFill>
                <a:latin typeface="Times New Roman"/>
              </a:rPr>
              <a:t>Szkoła dla rodziców i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i="1" lang="pl-PL" sz="2400" spc="-1" strike="noStrike">
                <a:solidFill>
                  <a:srgbClr val="003366"/>
                </a:solidFill>
                <a:latin typeface="Times New Roman"/>
              </a:rPr>
              <a:t>wychowawc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-  prowadzenie konsultacji indywidualnych i zespołowyc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-  realizacja kursów językowych, także dla osób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niebędących nauczycielami, w ramach </a:t>
            </a:r>
            <a:r>
              <a:rPr b="1" i="1" lang="pl-PL" sz="2400" spc="-1" strike="noStrike">
                <a:solidFill>
                  <a:srgbClr val="003366"/>
                </a:solidFill>
                <a:latin typeface="Times New Roman"/>
              </a:rPr>
              <a:t>Akademii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i="1" lang="pl-PL" sz="2400" spc="-1" strike="noStrike">
                <a:solidFill>
                  <a:srgbClr val="003366"/>
                </a:solidFill>
                <a:latin typeface="Times New Roman"/>
              </a:rPr>
              <a:t>Językowej O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imes New Roman"/>
              </a:rPr>
              <a:t>-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możliwość uzyskania certyfikatów z j. angielskiego w ramach ośrodka egzaminacyjnego PEARSONA przy O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8305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00"/>
                </a:solidFill>
                <a:latin typeface="Times New Roman"/>
              </a:rPr>
              <a:t>Organizowanie i prowadzenie sieci współpracy i samokształcenia</a:t>
            </a:r>
            <a:r>
              <a:rPr b="1" lang="pl-PL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Prowadzenie przez Ośrodek następujących sie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* liderów edukacji elementar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* dyrektorów poradni psychologiczno – pedagogiczn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* dyrektorów szkół zawodow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* nauczycieli etyki i filozofi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3366"/>
                </a:solidFill>
                <a:latin typeface="Times New Roman"/>
              </a:rPr>
              <a:t>* realizatorów programu </a:t>
            </a:r>
            <a:r>
              <a:rPr b="0" i="1" lang="pl-PL" sz="2400" spc="-1" strike="noStrike">
                <a:solidFill>
                  <a:srgbClr val="003366"/>
                </a:solidFill>
                <a:latin typeface="Times New Roman"/>
              </a:rPr>
              <a:t>Szkoła dla rodziców i wychowawc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-228600"/>
            <a:ext cx="8229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4T06:06:28Z</dcterms:created>
  <dc:creator>Sławek</dc:creator>
  <dc:description/>
  <dc:language>en-US</dc:language>
  <cp:lastModifiedBy>Admin</cp:lastModifiedBy>
  <dcterms:modified xsi:type="dcterms:W3CDTF">2017-08-18T06:57:11Z</dcterms:modified>
  <cp:revision>24</cp:revision>
  <dc:subject/>
  <dc:title>Prezentacja programu PowerPoint</dc:title>
</cp:coreProperties>
</file>