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68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0600" y="951840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69A2-B70A-4E52-A148-5A788AF5D879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900600" y="951876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14A2-EA1D-4947-B5B1-6813FDCD433C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FF5-1F6A-40E4-9318-3608D7A8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860-4029-48AE-936C-D6A01A0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076-25DE-4963-87B1-F01CF675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032-FD7A-4F26-B029-801D20F1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850-5434-4435-A00D-D643E390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9EB-6BFC-45AA-A93F-765E0EDF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AA8-1D75-43BA-B1C8-2514289B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BCF-116F-4448-BFCD-DA26CB4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4EC-E607-434A-9127-442BEC81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8CD-81F2-4B60-8DE8-0C36828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F10-20C0-4083-A70F-5911DC92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4BF-A0CF-4178-957C-EE28FCD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094-637F-48D0-B66F-6D6956A01512}" type="datetime">
              <a:rPr b="0" lang="pl-PL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5D4A-AA99-4BE2-9199-553A8AB01B5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raz 6" descr="NAGŁÓWEK Z BIAŁYMI PASKAMI.pn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71960" y="285732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ferta edukacyjna Wojewódzkiego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środka Metodycznego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w Gorzowie Wielkopolskim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na rok szkolny 2021/2022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78C-92AC-4E0A-BF95-92FED56871A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3"/>
          <p:cNvSpPr/>
          <p:nvPr/>
        </p:nvSpPr>
        <p:spPr>
          <a:xfrm>
            <a:off x="857160" y="5929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6-400 Gorzów Wielkopolski, ul. Łokietka 23,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95 721 61 -10, -11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-mail: wom@womgorz.edu.pl     www.womgorz.edu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4" descr="Budynek1.jpg"/>
          <p:cNvPicPr/>
          <p:nvPr/>
        </p:nvPicPr>
        <p:blipFill>
          <a:blip r:embed="rId1"/>
          <a:stretch/>
        </p:blipFill>
        <p:spPr>
          <a:xfrm>
            <a:off x="685800" y="907920"/>
            <a:ext cx="3087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OFERTA SZKOLENIOWA DLA KADRY KIEROW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 roku szk. 2021/2022 proponujemy m.in.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arcie dyrektorów i wicedyrektorów w warunkach kształcenia na odległoś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ynuację szkoleń związanych ze zmianami w prawie oświatowym, w tym szkolenia w zakresie edukacji prawnej dyrektorów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ykl szkoleń związanych z oceną pracy i awansem zawodowym nauczyciel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skonalenie w zakresie sprawowania nadzoru pedagog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5385-14E8-43A8-9B58-44A13274819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Szkolenia online dla dyrekto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341360"/>
          <a:ext cx="8229600" cy="519912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tuł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9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ania dyrektora szkoły w zakresie obowiązku prowadzenia Biuletynu Informacji Publicznej oraz dokonywania wydatków publicz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zór pedagogiczny po pandem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owanie działań w nadzorze pedagogicz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wo w pracy dyrek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yzje administracyjne w sz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cedyrektor w sz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yrektor szkoły a organ prowadzą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588-054E-4854-BE16-C66042AC977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Szkolenia online dla dyrekto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385452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tuł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owanie czy odbudowanie partnerskiej współpracy z rodzicam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rządzanie cza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iem kompetencji kluczowych w praktyce szkolnej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ekun stażu w procedurze awansu zawodowego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 mianowany w drodze do dyplomowania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dyrektor, e-nauczyciel – budowanie wizerunku prowadzącego zajęcia online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EDE-A0E2-42C8-B6F5-3451EED6637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ompleksowe wspomaganie szkół/placów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ku szkolnym 2021/2022  kontynuowany będzie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„</a:t>
            </a: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rogram wspomagania szkół i placówek województwa lubuskiego przez Wojewódzki Ośrodek Metodyczny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 Gorzowie Wielkopolskim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t. „Połączmy siły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D1D7-B592-4EDA-9284-914E3DB4C7E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rogram wspomagania szkół i placówek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ojewództwa lubuskieg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stawą realizacji programu jest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rozumieni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zawiera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WOM z przedszkolem/szkołą/placów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y realizacji Programu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czone są na stronie Ośrod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www.womgorz.edu.pl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ładka: Oferta szkoleń „WSPOMAGANIE SZKÓ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ordynator projektu: mgr Małgorzata J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95 7216-122, tel. kom. 509-517-1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-mail: malgorzata.jach@womgorz.edu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414B-485E-402E-B35F-27E83861D40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Sieci współpracy i samokształcenia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formą wspomagania nauczycieli i dyrek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funkcjonowania 22 sieci współpracy i samokształc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nauczycieli oraz  dyrektorów szkół i placówek jest doskonalenie ich  pracy, w szczególności poprzez wymianę doświadcze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ieci mają charakter przedmiotowy lub problem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y uczestniczące w sieciach współpracy i samokształcenia otrzymują zaświadczenia potwierdzające uczestnic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6D3-0F03-46AD-8681-93E7D41277F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-3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dyrek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1484280"/>
          <a:ext cx="8351640" cy="4538520"/>
        </p:xfrm>
        <a:graphic>
          <a:graphicData uri="http://schemas.openxmlformats.org/drawingml/2006/table">
            <a:tbl>
              <a:tblPr/>
              <a:tblGrid>
                <a:gridCol w="4599000"/>
                <a:gridCol w="375264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/wicedyrektorów szkół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 oświatowych  (o krótkim staż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wicedyrektorzy szkół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 oświatowych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Janiszew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 poradni psychologiczno-pedagogicznych –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wicedyrektorz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  psychologiczno-pedagogi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L. Pyżyń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 i nauczycieli przedszkoli -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nauczyciele przedszk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Turłaj, J. T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0CE2-F57D-43A1-B7A5-A5AD155E467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171440"/>
          <a:ext cx="8229600" cy="4583160"/>
        </p:xfrm>
        <a:graphic>
          <a:graphicData uri="http://schemas.openxmlformats.org/drawingml/2006/table">
            <a:tbl>
              <a:tblPr/>
              <a:tblGrid>
                <a:gridCol w="4897440"/>
                <a:gridCol w="3332160"/>
              </a:tblGrid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„Narzędzia TIK wspomagające pracę nauczyciela”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K. Tomic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pedagogów szkolnych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godzy szkolni wszystkich typów szkół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. 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Basi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logopedów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opedzi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Spirydowicz-Kacpe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wychowania do życia w rodzinie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wychowania do życia w rodzini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Krzewska-Gordzije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edukacji wczesnoszkolnej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edukacji wczesnoszkolnej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Domagał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 polskiego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polskiego szkół 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Gizińska-Gigoł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 polskiego szkół ponad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polskiego szkół 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M. Niewiadom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70F-9B8C-4EE5-9EE5-7BDA122363A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1341360"/>
          <a:ext cx="8353440" cy="4591080"/>
        </p:xfrm>
        <a:graphic>
          <a:graphicData uri="http://schemas.openxmlformats.org/drawingml/2006/table">
            <a:tbl>
              <a:tblPr/>
              <a:tblGrid>
                <a:gridCol w="4897440"/>
                <a:gridCol w="3456000"/>
              </a:tblGrid>
              <a:tr h="43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języków obcych 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Dryle językowe: bank pomysłów i wspólny cel czyli efektywniejsze nauczanie gramatyki” </a:t>
                      </a: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ęzyków obcych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U. Pola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języka niemieckiego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niemieckiego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I. Trzasko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histori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S 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historii i wos szkół 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Stępko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9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histori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S  szkół ponad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historii i wos  szkół 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Dutkiewi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 nauczycieli matematyki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matematyki  szkół  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I. Jankowska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 nauczycieli matematyki szkół ponadpodstawowych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matematyki szkół  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Tomczak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FDB4-958C-4F46-A74A-3EB3C56783E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39740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biologii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biologii szkół  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Duszka-Sond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 fizyki  wszystkich typów szkó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fizyki wszystkich typów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Z. Łucz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 geografii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geografii wszystkich typów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R. Jaroszewi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adców zawodowych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adcy zawodowi oraz nauczyciele prowadzący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jęcia doradztwa zawodowego.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Matus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kształcenia zawodowego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kształcenia zawodowego wszystkich typów szkół.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S. Pawlacz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bibliotekarzy szkolnych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bibliotekarz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M. Janas, M. Markow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656-0240-4EE8-B790-6601B2F5EFB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szkole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na rok szkolny 2021/2022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ublikowana jest na stronie WOM-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ttps://womgorz.edu.pl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praszamy nauczycieli i kadrę kierownicz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rzystania z naszych zasob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usług zarówno w siedzibie WOM-u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Biblioteki Pedagogicznej,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ównież z usług świadczonych on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64EA-7536-4FEF-BC02-D1AD9E6C5D7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400" spc="-1" strike="noStrike">
                <a:solidFill>
                  <a:srgbClr val="4f81b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ferta na rok szk. 2021/2022 zawier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36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ma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adresowana jest do wszystkich typów szkół i placów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szystkie szkolenia planowane są do realizacji zarówno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formie stacjonarnej jak i onlin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matyka szkoleń uwzględnia podstawowe kierunki polityki oświatowej państwa, wnioski z nadzoru pedagogicznego sprawowanego przez LK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wyniki egzaminów zewnętrznych szkół lubuski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Dyrektorów szkół i placówek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achęcamy do zamawiania szkoleń z oferty WOM-u,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 ale także tematów własnych  - spoza naszej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BB0-639E-45AD-A807-BDC14CED37C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052640"/>
          <a:ext cx="8497800" cy="4846680"/>
        </p:xfrm>
        <a:graphic>
          <a:graphicData uri="http://schemas.openxmlformats.org/drawingml/2006/table">
            <a:tbl>
              <a:tblPr/>
              <a:tblGrid>
                <a:gridCol w="647640"/>
                <a:gridCol w="7850160"/>
              </a:tblGrid>
              <a:tr h="4633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03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wo oświatowe w pracy  nauczyciel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ziałania innowacyjne w przedszkolu/szko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ie cyfrowe w szkole po pandem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zędzia internetowe w pracy nauczycie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pieczeństwo dzieci i młodzieży w cyberprzestrze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6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oholizm wśród dzieci i młodzieży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organizacja p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planowanie i dokumentowanie p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kształtowanie kompetencji kluczowych przedszkolak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 - konstruowanie scenariuszy zajęć i sytuacji edukacyjnych w przedszkolu  (szkolenie z możliwością udziału rodziców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459-8407-4617-89B5-8769BC13CEC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982800"/>
          <a:ext cx="8280360" cy="5254560"/>
        </p:xfrm>
        <a:graphic>
          <a:graphicData uri="http://schemas.openxmlformats.org/drawingml/2006/table">
            <a:tbl>
              <a:tblPr/>
              <a:tblGrid>
                <a:gridCol w="647640"/>
                <a:gridCol w="7632720"/>
              </a:tblGrid>
              <a:tr h="49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6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czyny agresywnych zachowań dziecka przedszkolnego.  Jak rozpoznać i pomóc?    </a:t>
                      </a:r>
                      <a:br>
                        <a:rPr sz="16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zkolenie z możliwością udziału rodziców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wspierać ucznia z zespołem Asperger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poznawać i zaspokajać potrzeby psychofizyczne uczniów wpływające na jakość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h zdrowia psychicznego?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przeciwdziałać przemocy rówieśniczej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pustego i Salomon nie naleje. Jak znaleźć siłę i motywację do pracy z ucznia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pandemii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koła dobrych relacji. Jak budować klimat po okresie dezintegracji oraz izolacji społecznej uczniów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mawiać z dzieckiem/uczniem w sytuacji trudnej i kryzysowej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szkoła/przedszkole może stać się placówką promującą zdrowi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ki pracy lekcyjnej wspierające uczniów w uczeniu si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132E-CCEA-498C-B335-BB5136D4FA9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246320"/>
          <a:ext cx="8218440" cy="4911480"/>
        </p:xfrm>
        <a:graphic>
          <a:graphicData uri="http://schemas.openxmlformats.org/drawingml/2006/table">
            <a:tbl>
              <a:tblPr/>
              <a:tblGrid>
                <a:gridCol w="658800"/>
                <a:gridCol w="755964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podnieść wynik na  egzaminie ósmoklasisty? Rekomendacje na podstawie analizy wyników kolejnego egzam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co warto zwrócić uwagę, analizując wynik swojej szkoły uzyskany na egzaminie ósmoklasisty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ura w 2023 roku – informacje dla rady pedagogiczne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uczyć jeszcze lepiej? Metody i techniki uczenia się przyjazne mózgow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 w szkole XXI wieku w świetle osiągnięć neurodydakty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dywidualizowana ścieżka kształcenia, nauczanie indywidualne i nauczanie domowe – zadania szkoły oraz obowiązki i dylematy nauczyciel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na przykładzie języka polskiego, historii, wiedz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społeczeństwie i lekcji wychowawczych 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w szkole podstawowej na przykładzie języków obc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E61-8F7A-4CDF-84F2-7F5E985704B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28600"/>
          <a:ext cx="8229600" cy="554040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w szkole podstawowej na przykładzie matematyk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rzedmiotów przyrodnicz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ślenie krytyczne – kompetencja XXI wie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uczenia się w kontekście ich przyszłych decyzji edukacyjno-zawodow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ma edukacji bez dobrych relacji – wprowadzenie do metody tutoring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cje wychowawcze online – budowanie relacji w czasach zdalnej edukacj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ching w rozwiązywaniu problemów wychowawczych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book zamiast „kopiuj wklej”. Propozycja metodyczna na lekcje różnych przedmiotów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szkole podstawowe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ory edukacyjne wycieczek po województwie lubuskim – organizacja warsztatów teren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anie hybrydowe i e-learning po pandemii – szansa na nową jakość edukacji czy obciążeni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FD20-CF46-4108-809A-E9AB008BEB1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warsztatowych proponowanych do realizacji w siedzibach szkół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jmuje </a:t>
            </a: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22 tematy,</a:t>
            </a:r>
            <a:br>
              <a:rPr sz="28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ponowane do realizacji </a:t>
            </a:r>
            <a:br>
              <a:rPr sz="28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tylko w formie stacjonarnej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to szkolenia dla grup liczących do 15 uczestników 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 przypadku szkoleń informatycznych – liczba uczestników powinna odpowiadać liczbie stanowisk komputerowych).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Przyjmowane są również zamówienia na tematy spoza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787-00CE-49B5-BE2B-C12AC8136EC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Warsztaty w sz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341360"/>
          <a:ext cx="8135640" cy="5097600"/>
        </p:xfrm>
        <a:graphic>
          <a:graphicData uri="http://schemas.openxmlformats.org/drawingml/2006/table">
            <a:tbl>
              <a:tblPr/>
              <a:tblGrid>
                <a:gridCol w="471240"/>
                <a:gridCol w="7664400"/>
              </a:tblGrid>
              <a:tr h="286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owanie dla najmłodszych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rzenie interaktywnych gier i zabaw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osowanie narzędzi cyfrowych na lekcjach różnych przedmiotó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woczesna edukacja z tablicą interaktywną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osowanie interaktywnych narzędzi w nauczani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ja zdalna z MicrosoftTeams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woczesne narzędzia cyfrowe wspomagające dydaktykę w szkole/placówc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cę świadomie wspierać rozwój swojego dziecka – warsztat uważnego rodzica (możliwość udziału rodziców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a nauczyciela przedszkola z zastosowaniem „Arkusza rozwoju dziecka w wieku od 3 do 6 lat – obserwacje pedagogiczne i diagnoza przedszkolna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8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y rozwijające pamięć i myślenie dzieci w wieku przedszkol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9CA1-BDB7-46EE-875B-589EE7C83FD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341360"/>
          <a:ext cx="8229600" cy="4330800"/>
        </p:xfrm>
        <a:graphic>
          <a:graphicData uri="http://schemas.openxmlformats.org/drawingml/2006/table">
            <a:tbl>
              <a:tblPr/>
              <a:tblGrid>
                <a:gridCol w="514440"/>
                <a:gridCol w="7715160"/>
              </a:tblGrid>
              <a:tr h="316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43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ady, konsekwencje i normy współżycia w grupie przedszkoln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onomia w przedszkolu – „ABC ekonomii czyli pierwsze kroki w świecie finansów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 w przedszkolu – „ABC empatii, bo wszyscy jesteśmy tacy sami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poszukiwaniu ciszy – ćwiczenia pomagające dziecku przedszkolnemu odnaleźć spokój i rozwinąć uważnoś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wyczajnie towarzyskie zamiast specjalnej troski” – jak wspierać uczni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niepełnosprawnością intelektualną w sytuacjach trudnych i nietypowych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ywna rzeczywistość sensoryczna dzieci ze spektrum autyz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oring w szko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411F-185E-46C3-B387-540DF8DBF57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3311640"/>
        </p:xfrm>
        <a:graphic>
          <a:graphicData uri="http://schemas.openxmlformats.org/drawingml/2006/table">
            <a:tbl>
              <a:tblPr/>
              <a:tblGrid>
                <a:gridCol w="658800"/>
                <a:gridCol w="7570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z się z zapałem!”  Techniki efektywnego nauczania w procesie lekcyj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kłady dobrych praktyk nauczania zdalnego – co i dlaczego warto wykorzystać po powrocie do szkół?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sa różnych prędkości”  –  jak indywidualizować pracę uczniów, wspierać ich autonomię i motywację do nauki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muzyczny potencjał małego dziecka w wieku 0-6 la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4EE3-FD7C-4786-A138-74248CDC276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Konferencje problem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matyka konferencji problemowych  w roku szk. 2021/22 wynikać będzie ze zmian w systemie edukacji oraz z kierunków polityki oświatowej państwa a także z potrzeb zgłaszanych przez nauczycieli i dyrektor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ół i placów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Plan szczegółowy konferencji problemowych zostanie opublikowa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na stronie internetowej WOM-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M będzie także współorganizatorem konferencji organizowanych przez Akademię im. Jakuba z Paradyża w Gorzowie Wielkopol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4AC-8CD1-41FC-8A85-F897213A94F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Działalność szkoleniowa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utrzymujący się stan pandemii oferta szkoleniowa zawiera podwójny katalog:  </a:t>
            </a:r>
            <a:br>
              <a:rPr sz="2800"/>
            </a:b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szkoleń stacjonarnych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szkoleń on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ku szkolnym 2021/2022 oferujemy nauczycielom i kadrze zarządzającej 550 różnego rodzaju szkoleń: kursów, warsztatów, seminariów, szkoleń rad pedagogicznych, warsztat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zkole, konferencji, sieci współprac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samokształcenia, 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36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w formie stacjonarnej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214   w formi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D7E-FF48-48BE-8CF9-CBD6C6D6B8F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libri"/>
              </a:rPr>
              <a:t>Konferencje przedmiotowo-metod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Konferencje przedmiotowo-metodyczne organizowane są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co roku w ostatnim tygodniu sierpnia i adresowane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do nauczycieli wszystkich przedmiotów i specjalnoś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W okresie od 23 sierpnia do 7 września 2021 r. odbędą się konferencje inaugurujące nowy rok szkolny 2021/2022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Spośród  27 konferencji przedmiotowo-metodycznych </a:t>
            </a:r>
            <a:br>
              <a:rPr sz="2300"/>
            </a:b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25 odbędzie się w formie online.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Natomiast w sierpniu 2022 r. przewiduje się organizację 27 konferencji przedmiotowo-metodycznych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w tym 16 w formie onlin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Zapraszamy nauczycieli do udziału. Szczegółowy harmonogram zamieszczony jest na stronie internetowej WOM-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FC59-950B-41DD-8A66-D26E0B046AB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ursy nadające uprawnienia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na kierownika wypoczynku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na wychowawcę wypoczynku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6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 na kierownika wycieczek szkolnych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12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przygotowujący nauczycieli do prowadzenia zajęć edukacyjnych w zakresie udzielania pierwszej po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ierownicy poszczególnych kurs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5 -721-61-14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01B-E2F3-487F-8820-E1EC4963054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112500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 roku szkolnym 2021/2022 WOM  proponuje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studia podyplomowe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na podstawie porozumienia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 Akademią im. Jakuba  z Paradyża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Gorzowie Wielkopolski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rządzanie oświatą </a:t>
            </a:r>
            <a:br>
              <a:rPr sz="2400"/>
            </a:b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(250 godz. w tym 30 godz. praktyki kierowniczej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bos.katarzyna.szczepaniak@womgorz.edu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95 -721-61-14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22FF-D660-4417-82FC-44F8CB7AF73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ARTNERSTWO W PROJEKTACH  UNI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roku szkolnym 2021/2022 WOM będzie kontynuował realizację zadań jako partner nw. projektów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Modernizacja kształcenia zawodowego w Powiecie Strzelecko-Drezdenecki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 realizowany w ramach RPO Lubuskie 2020, Oś 8 „Nowoczesna edukacja”, Działanie 8.4 „Doskonalenie jakości kształcenia zawodowego”, Poddziałania 8.4.1 „Doskonalenie jakości kształcenia zawodowego, projekty realizowane poza formułą ZIT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Termin realizacji projektu:  wrzesień 2016 – czerwiec 2022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Modernizacja kształcenia zawodowego w Powiecie Żarski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 realizo­wany w  ramach RPO Lubuskie 2020, Oś 8 „Nowoczesna edukacja”, Działanie 8.4 „Doskonalenie jakości kształcenia zawodowego”, Poddziałania 8.4.1 „Doskonalenie jakości kształcenia zawodowego, projekty realizowane poza formułą ZIT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Termin realizacji projektu:  wrzesień 2016 – czerwiec 2022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Szkoła  ćwiczeń w Gorzowie Wielkopolskim 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– w ramach POWER 2014-2020, Oś Priorytetowa  II „Efektywne polityki publiczne dla rynku pracy, gospodarki i edukacji”, Działanie 2.10. „Wysoka jakość systemu oświat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7375e"/>
                </a:solidFill>
                <a:latin typeface="Calibri"/>
              </a:rPr>
              <a:t>Termin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  realizacji projektu:  2020 – 20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iderem projektu jest Miasto  Gorzów Wielkopolski, a partnerami są: WOM Gorzów,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kademia im. Jakuba 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 Paradyża w Gorzowie Wielkopols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025-E632-456A-B305-F54B3C08FBA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ARTNERSTWO W PROJEKTACH  UNI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Bez granic: nauka – praca – życie. Orientacja zawodowa na pograniczu polsko-niemieckim    – rozwiązanie modelowe na przykładzie Euroregionu PRO EUROPA VIADRINA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 przygotowany został wspólnie z Institut für Oekonomische Bildung z Oldenburga w ramach osi priorytetowej III Programu „Interreg Va Brandenburgia-Lubuskie 2014-2020”. Liderem projektu jest IHK Projekt­gesellschaft mbH Frankfurt/O (Niemcy), a WOM jest jedny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 siedmiu partner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Termin realizacji projektu: 2018 -20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8921-F0F4-4E18-B25B-88349A2EEF9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Calibri"/>
              </a:rPr>
              <a:t>Rejon OKE w WOM-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odstawie porozumienia pomiędzy Dyrektorem WOM-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 Dyrektorem OKE w Poznaniu w Wojewódzkim Ośrodku Metodycznym znajduje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iedziba rejonu koordynacji egzaminów zewnętrznych dla szkół siedmiu północnych powiatów lubu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obejmuje działalność informacyjną, szkoleniow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rganizacyj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1F6F-3F86-4629-80F1-C6DB7128C33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Biblioteka Pedagogiczna WOM-u</a:t>
            </a:r>
            <a:br>
              <a:rPr sz="36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l. Łokietka 20A,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95) 721-61-4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Symbol zastępczy zawartości 4" descr="BIBLIOT.jpg"/>
          <p:cNvPicPr/>
          <p:nvPr/>
        </p:nvPicPr>
        <p:blipFill>
          <a:blip r:embed="rId1"/>
          <a:stretch/>
        </p:blipFill>
        <p:spPr>
          <a:xfrm>
            <a:off x="682560" y="1700280"/>
            <a:ext cx="3353040" cy="4524480"/>
          </a:xfrm>
          <a:prstGeom prst="rect">
            <a:avLst/>
          </a:prstGeom>
          <a:ln w="0">
            <a:noFill/>
          </a:ln>
        </p:spPr>
      </p:pic>
      <p:sp>
        <p:nvSpPr>
          <p:cNvPr id="15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418-78EB-4043-8A9A-C19E2077B3E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5"/>
          <p:cNvSpPr/>
          <p:nvPr/>
        </p:nvSpPr>
        <p:spPr>
          <a:xfrm>
            <a:off x="4067280" y="1989000"/>
            <a:ext cx="48258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Organizuje i prowadzi wspomaganie: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szkół i placówek w realizacji zada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dydaktycznych, wychowawcz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i opiekuńczy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bibliotek szkol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Organizuje i prowadzi sieci współpracy</a:t>
            </a:r>
            <a:br>
              <a:rPr sz="1800"/>
            </a:b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   i samokształcenia dla nauczycie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Calibri"/>
              </a:rPr>
              <a:t>Propon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gaty wybór zajęć edukacyjnych, lekcji bibliotecznych  (realizacja w BP lub szk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375e"/>
                </a:solidFill>
                <a:latin typeface="Calibri"/>
              </a:rPr>
              <a:t>Zaprasza do Galerii „Na mansardzi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obejrzenia interesujących wyst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rezentowania dorobku artystycznego swoich uczniów,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-154800" y="44280"/>
            <a:ext cx="9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iblioteka Pedagogiczna stanowi wojewódzkie multimedialne centrum informacji pedagogicznej oraz centrum zbiorów z zakresu pedagogiki, psychologii i nauk pokrewnyc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4" descr=""/>
          <p:cNvPicPr/>
          <p:nvPr/>
        </p:nvPicPr>
        <p:blipFill>
          <a:blip r:embed="rId2"/>
          <a:stretch/>
        </p:blipFill>
        <p:spPr>
          <a:xfrm>
            <a:off x="324000" y="554040"/>
            <a:ext cx="5936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Zapraszamy Państwa do współpracy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i korzystania z oferty WOM i BP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	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głoszenia na wszystkie formy doskonalenia organizowane przez W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przyjmowane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są</a:t>
            </a:r>
            <a:r>
              <a:rPr b="1" lang="pl-PL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drogą elektroniczną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 pośrednictwem strony internetow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4f81bd"/>
                </a:solidFill>
                <a:latin typeface="Calibri"/>
              </a:rPr>
              <a:t>www.womgorz.edu.p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55F0-6EA6-42D1-927E-6308E2D3012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formacji na temat szkoleń udzie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Biuro Obsługi Szkole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.: 95 721 61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br>
              <a:rPr sz="32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katarzyna.szczepani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anna.olejnicz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katarzyna.burdzinska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2B0F-C3EF-4F16-AAEC-0A1CE873972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Priorytety stałe w działalności szkolen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runki polityki oświatowej państ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nioski z nadzoru pedagogicznego sprawowanego    przez Lubuskiego Kuratora Oświ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 egzaminów zewnętrzn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EF7-2A15-41B4-8A84-1A97BF75C43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58ed5"/>
                </a:solidFill>
                <a:latin typeface="Calibri"/>
              </a:rPr>
              <a:t>Priorytet spowodowany pandemi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pomaganie psychopedagogiczn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uczycieli, uczniów i rodzic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C78-6251-42B4-A875-D44800DD593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szkole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zupełniona jest  ofertą kursów nadających uprawnienia i studiów podyplom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Zgłoszenia na wszystkie formy szkoleń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prowadzone są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w formie elektronicz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805D-6753-4DD0-812E-0C542EDA196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 szkoleń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WOM-u zawiera  następujące formy doskonal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74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arsztaty, seminaria, kursy doskonalące, 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89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ematy „warsztatów w szko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ematów szkoleń rad pedagogicznych – wszystkie również 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ormi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konferencji przedmiotowo-metodyczn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6 onli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 oraz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4 kursy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jące uprawnienia i inne szko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63EC-D219-4ACF-9125-60CD00E79A9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Organizacja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dania statutowe realizują cztery Pracowni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Zarządzania Oświat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Psychoedukacji i Wychowa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Doskonalenia Metodyczn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Technologii Informacyj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7375e"/>
                </a:solidFill>
                <a:latin typeface="Calibri"/>
              </a:rPr>
              <a:t>oraz  Biblioteka Pedagogicz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w ramach sieci utworzonej przez Lubuskiego Kuratora Oświaty zadania doradcy metodycznego realizować będzie 17 nauczyciel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B887-9A4C-4B38-B505-CB433169DF3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ZESPÓŁ  DORADCÓW  METOD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kaz doradców metodycznych zamieszczony j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stronie internetowej Ośrodka w zakład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DORADZTWO METODYCZNE”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tórej znajdują się informacje dotyczące funkcjonowania doradców metodyczn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„SERWISY DORADCÓW”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zawierające bogate materiały dla nauczyci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F195-BE65-479A-82B5-B8623C88B0F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9:55:47Z</dcterms:created>
  <dc:creator>Emil</dc:creator>
  <dc:description/>
  <dc:language>en-US</dc:language>
  <cp:lastModifiedBy>Wojewódzki Ośrodek Metodyczny</cp:lastModifiedBy>
  <cp:lastPrinted>2021-08-16T06:29:27Z</cp:lastPrinted>
  <dcterms:modified xsi:type="dcterms:W3CDTF">2021-08-16T10:26:25Z</dcterms:modified>
  <cp:revision>498</cp:revision>
  <dc:subject/>
  <dc:title>Slajd 1</dc:title>
</cp:coreProperties>
</file>